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6D1B-ACC2-4DF4-9C59-844EC8652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C7A6-BA68-4E63-A6AE-989146E0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8B13-340A-4CB1-B15D-EEA7E23F6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DB7C-345F-4EBF-B2E7-ECC334C9A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3DF2-9141-48D3-A7FE-F1FF0D7C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70F5-D3A7-43C2-8B46-CA465669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DE81-7D42-4F14-A6A3-82239B6B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19EA-7C17-4AFC-BE7B-59AE660C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4842-DBBE-4F69-9242-530B39D0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FB4A-368C-4F53-ACCB-BD77E49C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1653-FC16-4489-9D2D-D925C1F3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7E0B-BE96-4935-92D5-3A2F50EB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BF6C-7D28-414E-89EC-1C0461A57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коробок в форме прямоугольного параллелепипеда размерами 30х40х50 см можно поместить в кузов машины размерами 2х3х1,5 (м)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406260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22860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у, заполняющую всю коническую колбу высотой 12 см, перелили в цилиндрический сосуд, радиус основания которого равен радиусу окружности конической колбы. На какой высоте от основания цилиндрического сосуда будет находиться поверхность воды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438280" y="2514600"/>
            <a:ext cx="38484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ный прямоугольный параллелепипед, ребра которого равно 20 см, 20 см и 10 см, переплавлен в шар. Найдите радиус шара. (Примит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752480" y="1066680"/>
          <a:ext cx="64800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066680"/>
                    <a:ext cx="6480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2971800" y="2133720"/>
            <a:ext cx="328284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нужно взять медных шаров радиуса 2 см, чтобы из них можно было выплавить шар радиуса 6 см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2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124080" y="1981080"/>
            <a:ext cx="297180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радиус шара, который можно выплавить из трех медных шаров радиусов 3 см, 4 см и 5 с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4017960" cy="14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коть вишни окружает косточку толщиной, равной диаметру косточки. Считая шарообразной форму вишни и косточки, найдите отношение объема мякоти к объему косточ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2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038480" y="2209680"/>
            <a:ext cx="781200" cy="7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8600" y="2286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ь русла реки имеет форму равнобедренной трапеции, основания которой равны  10 м и 6 м, а высота – 2 м. Скорость течения равна 1 м/сек. Какой объем воды проходит через этот профиль за 1 мин. Ответ дайте в кубических метра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96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971800" y="2743200"/>
            <a:ext cx="304632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8600" y="2286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гунная труба имеет длину 2 м и внешний диаметр 20 см. Толщина стенок трубы равна 2 см. Найдите вес трубы, если удельный вес чугуна примерно равен 7,5 г/см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твет дайте в килограммах. (Примит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6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505320" y="1371600"/>
          <a:ext cx="64764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371600"/>
                    <a:ext cx="64764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62520" y="2514600"/>
            <a:ext cx="160308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8600" y="2286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объем краски потребуется, чтобы окрасить внешнюю поверхность цилиндрической трубы диаметра 1 м и длины 10 м слоем краски в 1 мм. Ответ дайте в кубических дециметрах. (Примит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3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828800" y="1447920"/>
          <a:ext cx="64764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447920"/>
                    <a:ext cx="64764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124080" y="2743200"/>
            <a:ext cx="263052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объем краски потребуется, чтобы окрасить поверхность шара радиуса 1 м слоем краски в 0,5 мм. Ответ дайте в кубических дециметрах. (Примит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952880" y="1066680"/>
          <a:ext cx="64800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066680"/>
                    <a:ext cx="6480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505320" y="2209680"/>
            <a:ext cx="179532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ный лист бумаги со стороной 6 см. перегнули по пунктирным линиям, показанным на рисунке, и сложили треугольную пирамиду. Найдите ее объ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505320" y="2133720"/>
            <a:ext cx="17841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досок длиной 3,5 м, шириной 20 см и толщиной 20 мм выйдет из четырехугольной балки длиной 105 дм, имеющей в сечении прямоугольник размером 30 с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0 см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9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95480" y="2743200"/>
            <a:ext cx="317520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объем детали, изображенной на рисунке (все двугранные углы прямые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76720" y="1905120"/>
            <a:ext cx="258588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объем детали, изображенной на рисунке (все двугранные углы прямые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4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429000" y="1981080"/>
            <a:ext cx="229860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объем детали, изображенной на рисунке (все двугранные углы прямые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048120" y="1828800"/>
            <a:ext cx="240480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28600" y="2286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ждой грани медного куба с ребром 6 см проделали сквозное квадратное отверстие со стороной квадрата 2 см. Найдите вес оставшейся части, считая удельный вес меди приблизительно равным 0,9 г/см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4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581280" y="2209680"/>
            <a:ext cx="171468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объем детали, изображенной на рисунке, составленной из двух частей цилиндров. (Примит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22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257800" y="685800"/>
          <a:ext cx="64764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685800"/>
                    <a:ext cx="64764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01640" cy="21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объем детали, изображенной на рисунке, вырезанной из цилиндра. (Примит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3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352680" y="685800"/>
          <a:ext cx="64800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685800"/>
                    <a:ext cx="6480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2971800" y="1752480"/>
            <a:ext cx="2832120" cy="15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метр Солнца примерно в 400 раз больше диаметра Луны. Во сколько раз объем Солнца больше объема Луны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43434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0000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ры кирпича 25х12х6,5 (см). Найдите вес одного кирпича в граммах, если объемный вес кирпича равен 1700 кг/м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331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05320" y="2743200"/>
            <a:ext cx="200952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а должна быть площадь кабинета высотой 3,5 м для класса в 28 человек, если на каждого ученика нужно 7,5 м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здух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6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8120" y="2209680"/>
            <a:ext cx="297180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22860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олинейный участок дороги, шириной 10 м и длиной 100 м, требуется покрыть асфальтом, толщиной 5 см. Сколько машин грузоподъемностью 5 тонн потребуется для подвозки необходимого количества асфальта, если объемный вес асфальта равен 2,4 т/м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2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0" y="2971800"/>
            <a:ext cx="432756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2286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амида Хеопса имеет форму правильной четырехугольной пирамиды, сторона основания которой равна 230 м, а высота около 138 м. Найдите ее объем в кубических мет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4343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433 4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8120" y="2209680"/>
            <a:ext cx="284292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2286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илиндрический сосуд, в котором находится 6 дм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ды, опущена деталь. При этом уровень жидкости в сосуде поднялся в 1,5 раза. Чему равен объем детали в кубических дециметрах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733920" y="2362320"/>
            <a:ext cx="131436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2286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у, находящуюся в цилиндрическом сосуде на уровне 12 см, перелили в цилиндрический сосуд, в два раза большего диаметра. На какой высоте будет находиться уровень воды во втором сосуд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895480" y="2286000"/>
            <a:ext cx="298152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цилиндрическая кружка вдвое выше второй, зато вторая в полтора раза шире. Найдите отношение объема второй кружки к объему перв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4343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,12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819520" y="1981080"/>
            <a:ext cx="323856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05:06:28Z</dcterms:created>
  <dc:creator>*</dc:creator>
  <dc:description/>
  <dc:language>en-US</dc:language>
  <cp:lastModifiedBy>*</cp:lastModifiedBy>
  <dcterms:modified xsi:type="dcterms:W3CDTF">2010-01-12T05:49:08Z</dcterms:modified>
  <cp:revision>31</cp:revision>
  <dc:subject/>
  <dc:title>Презентация PowerPoint</dc:title>
</cp:coreProperties>
</file>