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028C-8F45-496A-AF8A-AEF9D705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7EFC-517E-423C-BAB9-2AB0A89B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8BBB-D081-4D8D-8EE0-D9DF1EFD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4579-0F06-4489-9B10-7D5868BB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252-1534-4AAC-AE59-4AA19003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D67-F374-4E6B-8925-798B7716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676-F60B-471F-9FB5-CE9B9E44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CD9-D99B-4FCC-8B29-90F627B1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C8B-A56F-4919-94D4-3D656E2A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D2D-BF94-4D98-AF15-3F52087F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2FE-57B1-4FA3-B7D8-B46C43C3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458-78D0-4261-91E6-91359100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0E7C-0201-462F-9ED1-1A9033052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ой прямой на равном расстоянии друг от друга стоят три телеграфных столба. Крайние находятся от дороги на расстояниях 18 м и 48 м. Найдите расстояние, на котором находится от дороги средний стол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286000" cy="1536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длины должна быть лестница, чтобы она достала до окна дома на высоте 8 метров, если ее нижний конец отстоит от дома на 6 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15494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 м одна от другой растут две сосны. Высота одной 31 м, а другой 6 м. Найдите расстояние между их верхушк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81636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2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бель камыша выступает из воды озера на 1 м. Его верхний конец отклонили от вертикального положения на 2 м, и он оказался на уровне воды. Найдите глубину озера в месте, где растет камыш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505320" y="2514600"/>
            <a:ext cx="195552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руглого бревна нужно вырезать брус с поперечным сечением 5х12 (см). Какой наименьший диаметр должно иметь бревно?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29000" y="2057400"/>
            <a:ext cx="16891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860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высоты к ширине экрана телевизора равно 0,75. Диагональ равна 60 см. Найдите ширину экрана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0732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1522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наименьшего диаметра должен быть цилиндрический сосуд, чтобы в него можно было поместить деталь в форме прямоугольного параллелепипеда, размерами 6х8х10 (см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353700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ннель имеет форму полукруга радиуса 3 м. Какой наибольшей высоты должна быть машина, шириной 2 м, чтобы она могла проехать по этому туннелю? В ответе укажите приближенное значение в метрах с точностью до одного знака после запят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,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143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наименьшее ребро должна иметь кубическая коробка, чтобы в нее поместился тетраэдр с ребром, равным 8 см? В ответе укажите целое число санти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65760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м углу кубической коробки, размерами 40х40х40 см, сидит муха. В противоположном углу сидит паук. Найдите длину кратчайшего пути по поверхности коробки, по которому паук может доползти до мухи. В ответе укажите приближенное значение, равное целому числу санти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8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3400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м углу комнаты, размерами 4х5х3 м, сидит муха. В противоположном углу сидит паук. Найдите длину кратчайшего пути по поверхности комнаты, по которому паук может доползти до мухи. В ответе укажите приближенное значение в метрах с точностью до одного знака после запят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8,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217152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дной прямой на равном расстоянии друг от друга стоят три телеграфных столба. Первый и второй находятся от дороги на расстояниях 15 м и 20 м. Найдите расстояние, на котором находится от дороги третий столб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1700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522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ратчайший путь по поверхности правильного тетраэдр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единяющий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сположенные на высотах боковых граней в 7 см от соответствующих вершин тетраэдра. Ребро тетраэдра равно 20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0574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ршинах двух елок сидят две вороны. Высота елок равна 4 м и 6 м. Расстояние между ними равно 10 м. На каком расстояни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положить сыр для этих ворон, чтобы они находились в равных условиях, т.е. чтобы расстояния от них до сыра было одинаковы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3148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1522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прошел от дома по направлению на восток 800 м. Затем повернул на север и прошел 600 м. На каком расстоянии от дома оказался мальчик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6305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1522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прошла от дома по направлению на запад 500 м. Затем повернула на север и прошла 300 м. После этого она повернула на восток и прошла еще 100 м. На каком расстоянии от дома оказалась девочка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502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1522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и девочка, расставшись на перекрестке, пошли по взаимно перпендикулярным дорогам, мальчик со скоростью 4 км/ч, девочка 3 км/ч. Какое расстояние (в км) будет между ними через 30 ми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19782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парохода вышли из порта, следуя один на север, другой на запад. Скорости их равны 15 км/ч и 20 км/ч. Какое расстояние будет между ними через 2 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144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, приведенные на рисунке, найдите расстояние в метрах между пунктами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сположенными на разных берегах оз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29289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тница длиной 12,5 м приставлена к стене так, что расстояние от ее нижнего конца до стены равно 3,5 м. На какой высоте от земли находится верхний конец лестницы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1549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е расстояние следует отодвинуть от стены дома нижний конец лестницы, длина которой 13 м, чтобы верхний ее конец оказался на высоте 12 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157140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11T04:59:20Z</dcterms:modified>
  <cp:revision>14</cp:revision>
  <dc:subject/>
  <dc:title>Презентация PowerPoint</dc:title>
</cp:coreProperties>
</file>