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14.png" ContentType="image/png"/>
  <Override PartName="/ppt/media/image20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70.png" ContentType="image/png"/>
  <Override PartName="/ppt/media/image28.png" ContentType="image/png"/>
  <Override PartName="/ppt/media/image57.png" ContentType="image/png"/>
  <Override PartName="/ppt/media/image2.wmf" ContentType="image/x-wmf"/>
  <Override PartName="/ppt/media/image29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71.wmf" ContentType="image/x-wmf"/>
  <Override PartName="/ppt/media/image49.png" ContentType="image/png"/>
  <Override PartName="/ppt/media/image8.png" ContentType="image/png"/>
  <Override PartName="/ppt/media/image3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5334-B62D-45C7-801C-9D2F0CDB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66E4-335A-4078-B5CB-8F6CAB02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7D55-CB09-4C4F-9430-95F326DA4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540E-96F2-4DB2-AF64-1D0A1D04C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470D-34EF-442B-93F5-CB5D3F1F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EA91-6119-4AF7-8461-C0B3B3A9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A77C-379B-4924-AA52-1A1E2253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6CC4-6C28-4078-B645-EBAF698E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0B80-71FF-4A74-9164-589D01B1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7985-2D00-4540-B079-19E484F8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1A38-914C-4604-A897-D96E9E2C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3701-B2AF-4003-B2A2-1277E7AC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E4BB-E438-4B3F-B27C-277A940245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1.wmf"/><Relationship Id="rId4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80880"/>
            <a:ext cx="8686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осударственная итоговая аттестация (ГИА) в 9-ом класс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только осуществ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я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контроль за качеством обучения школьников, полученными ими знаниями, выработанными умениями и навыками, сформированными компетенциями. Содержание и форма проведени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эти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аме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д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ориентиры всего математического образования, влияют на отбор содержания, выбор форм и методов обучения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Поэтому так важно, чтобы содержание ГИА соответствовало целям и задачам математического образования школьник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86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е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ите высот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089160" cy="3048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743200" y="1752480"/>
            <a:ext cx="3087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е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ите биссектрис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3089160" cy="3048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971800" y="1752480"/>
            <a:ext cx="3087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. Изобразит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имметричный треугольник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носительно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3089160" cy="3046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743200" y="1676520"/>
            <a:ext cx="3087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. Изобразит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имметричный треугольник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тносительно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3089160" cy="3046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743200" y="1676520"/>
            <a:ext cx="3087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6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76720" y="2133720"/>
            <a:ext cx="2201760" cy="1255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28600" y="8380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острый угол прямоугольного треугольник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вен 2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руго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ый уго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г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е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ен 4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нешний угол при вершин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ен 6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2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581280" y="1752480"/>
            <a:ext cx="183852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е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ен 3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0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251172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920" y="3049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тре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ен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внешний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45720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281952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. Так как углы при основании равнобедренного треугольника равны и сумма углов треугольника равна 18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о 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угольни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ы 6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Следовательно,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B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1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224316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3049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тре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нешний угол при вершин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ен 13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угол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45720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6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28195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. Так как углы при основании равнобедренного треугольника равны и сумма углов треугольника равна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о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угольни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6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297180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3049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треугольник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биссектриса,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ен 5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ен 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4343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7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581280" y="1600200"/>
            <a:ext cx="17528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1160"/>
            <a:ext cx="914400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енности геометрических задач, отбираемых для включения 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атемати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роли наглядности. К каждой задач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полагаетс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исунок, позволяющий лучше понять условие, представить соответствующую геометрическую ситуацию, наметить план решения, при необходимости провести дополнительные построения и вычи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роли конструктивных умений учащихся. Включ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дач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которых требуется не только выполнить вычисления, но и провести постро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изображения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комых геометрических фигу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роли геометрических задач с практической направленностью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хождение расстояний до недоступных объектов, величин углов, объемов и площадей поверхностей реальных предметов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049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треугольник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медиана,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ен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ен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4343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95480" y="2133720"/>
            <a:ext cx="2830680" cy="14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3049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треугольник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гол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ен 4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ен 5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 продолжении стороны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ложен отрезо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В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еугольни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343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3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819520" y="2057400"/>
            <a:ext cx="306684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 двух углов параллелограмма равна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один из оставшихся угл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273672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угол параллелограмма больше другого на 7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больший уго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273672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ональ параллелограмма образует с двумя его сторонами углы 2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3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больший угол параллелограмм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00400" y="2362320"/>
            <a:ext cx="273672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33520" y="5181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200400" y="2362320"/>
            <a:ext cx="2630520" cy="1423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2280" y="6858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к прошел от дома по направлению на восток 800 м. Затем повернул на север и прошел 600 м. На каком расстоянии от дома оказался мальчик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и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8600" y="15228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чик и девочка, расставшись на перекрестке, пошли по взаимно перпендикулярным дорогам, мальчик со скоростью 4 км/ч, девочка 3 км/ч. Какое расстояние (в км) будет между ними через 30 мин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181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2,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352680" y="2743200"/>
            <a:ext cx="197820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1522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парохода вышли из порта, следуя один на север, другой на запад. Скорости их равны 15 км/ч и 20 км/ч. Какое расстояние будет между ними через 2 ч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5181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505320" y="2438280"/>
            <a:ext cx="191448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28600" y="1522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данные, приведенные на рисунке, найдите расстояние в метрах между пунктами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асположенными на разных берегах озе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5181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5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895480" y="2057400"/>
            <a:ext cx="292896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8600" y="1522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длины должна быть лестница, чтобы она достала до окна дома на высоте 8 метров, если ее нижний конец отстоит от дома на 6 м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5181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505320" y="2286000"/>
            <a:ext cx="154944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1160"/>
            <a:ext cx="9144000" cy="69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о геометрические задачи подразделяются 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дачи на распознавание геометрических фигур и их элемент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дачи на изображение и проведение дополнительны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на вычислени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углов, длин, площадей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задачи 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казательств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ждый из этих типов задач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ет важную функцию и способствует достижению результатов обуче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И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олжны быть, в той или иной мере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ы геометрические задачи всех эти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ипо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1522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 одна от другой растут две сосны. Высота одно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м, а другой 6 м. Найдите расстояние между их верхушка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5181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670120" y="2803680"/>
            <a:ext cx="380376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данные, приведенные на рисунке, найдите расстояни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лод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 берег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209556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данные, приведенные на рисунке, найдите высоту мачт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495600" cy="17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04920" y="2286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данные, приведенные на рисунке, найдите ширин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318456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4920" y="2286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данные, приведенные на рисунке, найдите ширин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е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323856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04920" y="2286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ростом 1,7 м стоит на расстоянии 8 шагов от столба, на котором висит фонарь. Тень человека равна двум шагам. На какой высоте расположен фонарь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124080" y="1981080"/>
            <a:ext cx="253368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2286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 ростом 1,7 м стоит на расстоянии 12 м от столба, на котором висит фонарь на высоте 8,5 м.  Найдите длину тени человека в метр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666880" y="2286000"/>
            <a:ext cx="359280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4920" y="2286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ткое плечо шлагбаума имеет длину 1 м, а длинное плечо – 4 м. На какую высоту поднимается конец длинного плеча, когда конец короткого плеча опускается на 0,5 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90920" y="1981080"/>
            <a:ext cx="365760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04920" y="228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ткое плечо шлагбаума имеет длину 1 м, а длинное плечо – 3 м. На какую высоту опускается конец  короткого плеча, когда конец длинного плеча поднимается на 1,5 м. Ответ дайте в метрах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0,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124080" y="2362320"/>
            <a:ext cx="29178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28600" y="7621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треугольник, вершины которого имеют координаты (-1, 0), (3, 0), (3, 3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819520" y="2590920"/>
            <a:ext cx="2743200" cy="261432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685800" y="2590920"/>
            <a:ext cx="4876920" cy="2898000"/>
            <a:chOff x="685800" y="2590920"/>
            <a:chExt cx="4876920" cy="2898000"/>
          </a:xfrm>
        </p:grpSpPr>
        <p:sp>
          <p:nvSpPr>
            <p:cNvPr id="163" name=""/>
            <p:cNvSpPr/>
            <p:nvPr/>
          </p:nvSpPr>
          <p:spPr>
            <a:xfrm>
              <a:off x="685800" y="50292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твет. 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2"/>
            <a:stretch/>
          </p:blipFill>
          <p:spPr>
            <a:xfrm>
              <a:off x="2819520" y="2590920"/>
              <a:ext cx="2743200" cy="26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щад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7621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Изобразит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резо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ина которого рав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ороны квадратных клеток равны 1)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19520" y="1828800"/>
            <a:ext cx="3089160" cy="304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7010280" y="762120"/>
          <a:ext cx="546120" cy="39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0280" y="762120"/>
                    <a:ext cx="54612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819520" y="1828800"/>
            <a:ext cx="3087720" cy="3048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обра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треугольник, вершины которого имеют координаты (0, -2), (3, 3), (0, 3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2819160" cy="268776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685800" y="1752480"/>
            <a:ext cx="4952880" cy="3736440"/>
            <a:chOff x="685800" y="1752480"/>
            <a:chExt cx="4952880" cy="3736440"/>
          </a:xfrm>
        </p:grpSpPr>
        <p:sp>
          <p:nvSpPr>
            <p:cNvPr id="169" name=""/>
            <p:cNvSpPr/>
            <p:nvPr/>
          </p:nvSpPr>
          <p:spPr>
            <a:xfrm>
              <a:off x="685800" y="50292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вет.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,5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2"/>
            <a:stretch/>
          </p:blipFill>
          <p:spPr>
            <a:xfrm>
              <a:off x="2819520" y="1752480"/>
              <a:ext cx="2819160" cy="268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треугольник, вершины которого имеют координаты (-1, 0), (3, 0), (1, 4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819520" y="1905120"/>
            <a:ext cx="2743200" cy="2614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685800" y="1905120"/>
            <a:ext cx="4876920" cy="3583800"/>
            <a:chOff x="685800" y="1905120"/>
            <a:chExt cx="4876920" cy="3583800"/>
          </a:xfrm>
        </p:grpSpPr>
        <p:sp>
          <p:nvSpPr>
            <p:cNvPr id="174" name=""/>
            <p:cNvSpPr/>
            <p:nvPr/>
          </p:nvSpPr>
          <p:spPr>
            <a:xfrm>
              <a:off x="685800" y="50292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вет.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" name="" descr=""/>
            <p:cNvPicPr/>
            <p:nvPr/>
          </p:nvPicPr>
          <p:blipFill>
            <a:blip r:embed="rId2"/>
            <a:stretch/>
          </p:blipFill>
          <p:spPr>
            <a:xfrm>
              <a:off x="2819520" y="1905120"/>
              <a:ext cx="2743200" cy="2614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треугольник, вершины которого имеют координаты (0, -2), (4, 0), (0, 3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2895480" cy="275904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685800" y="1752480"/>
            <a:ext cx="4952880" cy="3736440"/>
            <a:chOff x="685800" y="1752480"/>
            <a:chExt cx="4952880" cy="3736440"/>
          </a:xfrm>
        </p:grpSpPr>
        <p:sp>
          <p:nvSpPr>
            <p:cNvPr id="179" name=""/>
            <p:cNvSpPr/>
            <p:nvPr/>
          </p:nvSpPr>
          <p:spPr>
            <a:xfrm>
              <a:off x="685800" y="50292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вет.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0" name="" descr=""/>
            <p:cNvPicPr/>
            <p:nvPr/>
          </p:nvPicPr>
          <p:blipFill>
            <a:blip r:embed="rId2"/>
            <a:stretch/>
          </p:blipFill>
          <p:spPr>
            <a:xfrm>
              <a:off x="2743200" y="1752480"/>
              <a:ext cx="2895480" cy="275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треугольник, вершины которого имеют координаты (2, -2), (2, 2), (-2, 2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2895480" cy="2759040"/>
          </a:xfrm>
          <a:prstGeom prst="rect">
            <a:avLst/>
          </a:prstGeom>
          <a:ln w="0">
            <a:noFill/>
          </a:ln>
        </p:spPr>
      </p:pic>
      <p:grpSp>
        <p:nvGrpSpPr>
          <p:cNvPr id="183" name=""/>
          <p:cNvGrpSpPr/>
          <p:nvPr/>
        </p:nvGrpSpPr>
        <p:grpSpPr>
          <a:xfrm>
            <a:off x="685800" y="1752480"/>
            <a:ext cx="4952880" cy="3736440"/>
            <a:chOff x="685800" y="1752480"/>
            <a:chExt cx="4952880" cy="3736440"/>
          </a:xfrm>
        </p:grpSpPr>
        <p:sp>
          <p:nvSpPr>
            <p:cNvPr id="184" name=""/>
            <p:cNvSpPr/>
            <p:nvPr/>
          </p:nvSpPr>
          <p:spPr>
            <a:xfrm>
              <a:off x="685800" y="50292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вет.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2743200" y="1752480"/>
              <a:ext cx="2895480" cy="2760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треугольник, вершины которого имеют координаты (3, 0), (0, 2), (-3, -1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2895480" cy="275904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685800" y="1752480"/>
            <a:ext cx="4952880" cy="3736440"/>
            <a:chOff x="685800" y="1752480"/>
            <a:chExt cx="4952880" cy="3736440"/>
          </a:xfrm>
        </p:grpSpPr>
        <p:sp>
          <p:nvSpPr>
            <p:cNvPr id="189" name=""/>
            <p:cNvSpPr/>
            <p:nvPr/>
          </p:nvSpPr>
          <p:spPr>
            <a:xfrm>
              <a:off x="685800" y="50292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вет.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,5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2743200" y="1752480"/>
              <a:ext cx="2895480" cy="2801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0, 0), (3, 0), (3, 3), (0, 3). Найдите его площад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2819520" cy="268740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685800" y="1676520"/>
            <a:ext cx="4876920" cy="3126600"/>
            <a:chOff x="685800" y="1676520"/>
            <a:chExt cx="4876920" cy="3126600"/>
          </a:xfrm>
        </p:grpSpPr>
        <p:sp>
          <p:nvSpPr>
            <p:cNvPr id="194" name=""/>
            <p:cNvSpPr/>
            <p:nvPr/>
          </p:nvSpPr>
          <p:spPr>
            <a:xfrm>
              <a:off x="685800" y="43434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твет. 9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>
              <a:off x="2743200" y="1676520"/>
              <a:ext cx="2819520" cy="2727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4, 1), (4, 3), (1, 3), (1, 1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2819520" cy="2687400"/>
          </a:xfrm>
          <a:prstGeom prst="rect">
            <a:avLst/>
          </a:prstGeom>
          <a:ln w="0">
            <a:noFill/>
          </a:ln>
        </p:spPr>
      </p:pic>
      <p:grpSp>
        <p:nvGrpSpPr>
          <p:cNvPr id="198" name=""/>
          <p:cNvGrpSpPr/>
          <p:nvPr/>
        </p:nvGrpSpPr>
        <p:grpSpPr>
          <a:xfrm>
            <a:off x="685800" y="1676520"/>
            <a:ext cx="4876920" cy="3126600"/>
            <a:chOff x="685800" y="1676520"/>
            <a:chExt cx="4876920" cy="3126600"/>
          </a:xfrm>
        </p:grpSpPr>
        <p:sp>
          <p:nvSpPr>
            <p:cNvPr id="199" name=""/>
            <p:cNvSpPr/>
            <p:nvPr/>
          </p:nvSpPr>
          <p:spPr>
            <a:xfrm>
              <a:off x="685800" y="43434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вет.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0" name="" descr=""/>
            <p:cNvPicPr/>
            <p:nvPr/>
          </p:nvPicPr>
          <p:blipFill>
            <a:blip r:embed="rId2"/>
            <a:stretch/>
          </p:blipFill>
          <p:spPr>
            <a:xfrm>
              <a:off x="2743200" y="1676520"/>
              <a:ext cx="2819520" cy="2728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3, 0), (0, 2), (-3, 0), (0, -2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2895480" cy="2759040"/>
          </a:xfrm>
          <a:prstGeom prst="rect">
            <a:avLst/>
          </a:prstGeom>
          <a:ln w="0">
            <a:noFill/>
          </a:ln>
        </p:spPr>
      </p:pic>
      <p:grpSp>
        <p:nvGrpSpPr>
          <p:cNvPr id="203" name=""/>
          <p:cNvGrpSpPr/>
          <p:nvPr/>
        </p:nvGrpSpPr>
        <p:grpSpPr>
          <a:xfrm>
            <a:off x="685800" y="1523880"/>
            <a:ext cx="5029200" cy="3279240"/>
            <a:chOff x="685800" y="1523880"/>
            <a:chExt cx="5029200" cy="3279240"/>
          </a:xfrm>
        </p:grpSpPr>
        <p:sp>
          <p:nvSpPr>
            <p:cNvPr id="204" name=""/>
            <p:cNvSpPr/>
            <p:nvPr/>
          </p:nvSpPr>
          <p:spPr>
            <a:xfrm>
              <a:off x="685800" y="43434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Ответ. 1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2"/>
            <a:stretch/>
          </p:blipFill>
          <p:spPr>
            <a:xfrm>
              <a:off x="2819520" y="1523880"/>
              <a:ext cx="2895480" cy="280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0, 0), (2, 0), (3, 3), (1, 3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2895480" cy="2759040"/>
          </a:xfrm>
          <a:prstGeom prst="rect">
            <a:avLst/>
          </a:prstGeom>
          <a:ln w="0">
            <a:noFill/>
          </a:ln>
        </p:spPr>
      </p:pic>
      <p:grpSp>
        <p:nvGrpSpPr>
          <p:cNvPr id="208" name=""/>
          <p:cNvGrpSpPr/>
          <p:nvPr/>
        </p:nvGrpSpPr>
        <p:grpSpPr>
          <a:xfrm>
            <a:off x="685800" y="1523880"/>
            <a:ext cx="5029200" cy="3279240"/>
            <a:chOff x="685800" y="1523880"/>
            <a:chExt cx="5029200" cy="3279240"/>
          </a:xfrm>
        </p:grpSpPr>
        <p:sp>
          <p:nvSpPr>
            <p:cNvPr id="209" name=""/>
            <p:cNvSpPr/>
            <p:nvPr/>
          </p:nvSpPr>
          <p:spPr>
            <a:xfrm>
              <a:off x="685800" y="43434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вет.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2"/>
            <a:stretch/>
          </p:blipFill>
          <p:spPr>
            <a:xfrm>
              <a:off x="2819520" y="1523880"/>
              <a:ext cx="2895480" cy="280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2860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3, -1), (3, 2), (-1, 4), (-1, 1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2895480" cy="275904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685800" y="1523880"/>
            <a:ext cx="5029200" cy="3279240"/>
            <a:chOff x="685800" y="1523880"/>
            <a:chExt cx="5029200" cy="3279240"/>
          </a:xfrm>
        </p:grpSpPr>
        <p:sp>
          <p:nvSpPr>
            <p:cNvPr id="214" name=""/>
            <p:cNvSpPr/>
            <p:nvPr/>
          </p:nvSpPr>
          <p:spPr>
            <a:xfrm>
              <a:off x="685800" y="43434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вет.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2"/>
            <a:stretch/>
          </p:blipFill>
          <p:spPr>
            <a:xfrm>
              <a:off x="2819520" y="1523880"/>
              <a:ext cx="2895480" cy="280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Изобразит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гол, тангенс которого раве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089160" cy="3046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819520" y="1295280"/>
            <a:ext cx="3124080" cy="30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2860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0, 0), (3, 1), (4, 4), (1, 3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2895480" cy="2759040"/>
          </a:xfrm>
          <a:prstGeom prst="rect">
            <a:avLst/>
          </a:prstGeom>
          <a:ln w="0">
            <a:noFill/>
          </a:ln>
        </p:spPr>
      </p:pic>
      <p:grpSp>
        <p:nvGrpSpPr>
          <p:cNvPr id="218" name=""/>
          <p:cNvGrpSpPr/>
          <p:nvPr/>
        </p:nvGrpSpPr>
        <p:grpSpPr>
          <a:xfrm>
            <a:off x="685800" y="1523880"/>
            <a:ext cx="5029200" cy="3279240"/>
            <a:chOff x="685800" y="1523880"/>
            <a:chExt cx="5029200" cy="3279240"/>
          </a:xfrm>
        </p:grpSpPr>
        <p:sp>
          <p:nvSpPr>
            <p:cNvPr id="219" name=""/>
            <p:cNvSpPr/>
            <p:nvPr/>
          </p:nvSpPr>
          <p:spPr>
            <a:xfrm>
              <a:off x="685800" y="43434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вет.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2819520" y="1523880"/>
              <a:ext cx="2895480" cy="280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2860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4, 1), (2, 3), (-1, 1), (1, -1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2895480" cy="2759040"/>
          </a:xfrm>
          <a:prstGeom prst="rect">
            <a:avLst/>
          </a:prstGeom>
          <a:ln w="0">
            <a:noFill/>
          </a:ln>
        </p:spPr>
      </p:pic>
      <p:grpSp>
        <p:nvGrpSpPr>
          <p:cNvPr id="223" name=""/>
          <p:cNvGrpSpPr/>
          <p:nvPr/>
        </p:nvGrpSpPr>
        <p:grpSpPr>
          <a:xfrm>
            <a:off x="685800" y="1523880"/>
            <a:ext cx="5029200" cy="3279240"/>
            <a:chOff x="685800" y="1523880"/>
            <a:chExt cx="5029200" cy="3279240"/>
          </a:xfrm>
        </p:grpSpPr>
        <p:sp>
          <p:nvSpPr>
            <p:cNvPr id="224" name=""/>
            <p:cNvSpPr/>
            <p:nvPr/>
          </p:nvSpPr>
          <p:spPr>
            <a:xfrm>
              <a:off x="685800" y="43434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вет.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5" name="" descr=""/>
            <p:cNvPicPr/>
            <p:nvPr/>
          </p:nvPicPr>
          <p:blipFill>
            <a:blip r:embed="rId2"/>
            <a:stretch/>
          </p:blipFill>
          <p:spPr>
            <a:xfrm>
              <a:off x="2819520" y="1523880"/>
              <a:ext cx="2895480" cy="280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2860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ординатной плоскости нарисуйте четырехугольник, вершины которого имеют координаты (0, 0), (4, 0), (3, 2), (1, 3). Найдите его площад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2895480" cy="275904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685800" y="1523880"/>
            <a:ext cx="5029200" cy="3279240"/>
            <a:chOff x="685800" y="1523880"/>
            <a:chExt cx="5029200" cy="3279240"/>
          </a:xfrm>
        </p:grpSpPr>
        <p:sp>
          <p:nvSpPr>
            <p:cNvPr id="229" name=""/>
            <p:cNvSpPr/>
            <p:nvPr/>
          </p:nvSpPr>
          <p:spPr>
            <a:xfrm>
              <a:off x="685800" y="43434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вет.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,5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2"/>
            <a:stretch/>
          </p:blipFill>
          <p:spPr>
            <a:xfrm>
              <a:off x="2819520" y="1523880"/>
              <a:ext cx="2895480" cy="280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28600" y="76212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а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ит через точки с координатами (0, 4) и (6, 0). Прямая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ходит через точку с координатами (0, 8) и параллельна прям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абсциссу точки пересечения прям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ось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5029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ордина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352680" y="2743200"/>
            <a:ext cx="267336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28600" y="7621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координаты точки пересечения прямых, заданных уравнениями 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6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5029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(1,2, 1,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276720" y="2133720"/>
            <a:ext cx="253512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28600" y="76212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, 0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, 2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, 6)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ются вершинами параллелограмма. Найдите координаты 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5029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(6, 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971800" y="2286000"/>
            <a:ext cx="31129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28600" y="76212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, 0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, 8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, 2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, 6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ются вершинами четырехугольника. Найдите координаты 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ечения его диагонал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5029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(3, 4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124080" y="2514600"/>
            <a:ext cx="311328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28600" y="76212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, 0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, 8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, 6) 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ются вершинами параллелограмма. Найдите координаты 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5029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(4,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048120" y="2133720"/>
            <a:ext cx="296064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28600" y="7621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координаты точки, симметричной точк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, 3) относительно начала координа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5029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(-4, -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200400" y="2154240"/>
            <a:ext cx="246060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28600" y="7621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координаты точки, симметричной точк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, 3) относительно ос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5029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(4, -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200400" y="2154240"/>
            <a:ext cx="246060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86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Изобразит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иссектрис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3089520" cy="3046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666880" y="1371600"/>
            <a:ext cx="3087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28600" y="76212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координаты точки, симметричной точк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, 3) относительно прямой, заданной уравнением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5029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(3, 4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505320" y="2362320"/>
            <a:ext cx="246060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28600" y="76212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координаты точки, полученной поворотом 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, 3) вокруг начала координат на угол 90 против часовой стрел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5029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(-3, 4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3352680" y="2438280"/>
            <a:ext cx="246852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28600" y="762120"/>
            <a:ext cx="86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координаты центра окружности, описанной около прямоугольник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ершины которого имеют координаты соответственно (-2, -2), (6, -2), (6, 4), (-2, 4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5029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(2,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429000" y="2709720"/>
            <a:ext cx="2384280" cy="22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28600" y="762120"/>
            <a:ext cx="868680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йдите координаты центра окружности, описанной около треугольник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, 2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, 2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, 6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5029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(5, 4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3505320" y="2438280"/>
            <a:ext cx="238428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28600" y="7621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чк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т координаты (2, 4) и (8, 6) соответственно. Найдите координаты вектор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5029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(6, 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352680" y="2416320"/>
            <a:ext cx="2308320" cy="21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8" name=""/>
          <p:cNvGraphicFramePr/>
          <p:nvPr/>
        </p:nvGraphicFramePr>
        <p:xfrm>
          <a:off x="7543800" y="1219320"/>
          <a:ext cx="533520" cy="42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43800" y="1219320"/>
                    <a:ext cx="53352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838080"/>
            <a:ext cx="9144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73200" indent="-32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номера верных утвержд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73200" indent="-32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Через любые две точки проходит не более одной прям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73200" indent="-324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ри пересечении двух прямых третьей прямой внутренние односторонние углы равны, то эти две прямые параллель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73200" indent="-324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ве параллельные прямые пересечены третьей прямой, то внутренние накрест лежащие углы составляют в сумме 180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73200" indent="-324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угол равен 3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смежный с ним угол равен 15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2120" y="5334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,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тверж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304920"/>
            <a:ext cx="9144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2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номера верных утвержд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24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Если две стороны одного треугольника соответственно равны  двум сторонам другого треугольника, то такие треугольники рав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24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В равнобедренном треугольнике медиана, проведенная к основанию, является одновременно биссектрисой и высот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24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Каждая сторона треугольника больше суммы двух других сторо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24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В треугольнике против большего угла лежит меньшая сторон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9528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304920"/>
            <a:ext cx="9144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3196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номера верных утвержд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 острых углов прямоугольного треугольника меньше 18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дин из углов равнобедренного треугольника равен 10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один из оставшихся углов равен 4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й угол треугольника больше каждого внутреннего угла, не смежного с ни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е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которог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торон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аименьша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49528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, 2,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304920"/>
            <a:ext cx="91440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3196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номера верных утвержд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Если расстояние от центра окружности до прямой больше радиуса окружности, то эти прямая и окружность пересекаю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Касательная к окружности перпендикулярна радиусу этой окруж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Через любые три точки, не принадлежащие одной прямой, проходит не менее одной окруж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  Если радиусы двух окружностей равны 3 и 5, а расстояние между их центрами равно 1, то эти окружности пересекаются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54100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304920"/>
            <a:ext cx="9144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3196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номера верных утвержд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Вписанный угол измеряется величиной дуги окружности, на которую он опирает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Центральный угол измеряется половиной дуги окружности, на которую он опирает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Если вписанный угол равен 3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центральный угол, опирающийся на ту же дугу, равен 6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Если дуга окружности составляет 8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центральный угол, опирающийся на эту дугу, равен 8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120" y="49528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3,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ьте точк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удаленную от точе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27240" y="1906560"/>
            <a:ext cx="3087720" cy="304812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304920" y="1905120"/>
            <a:ext cx="8839080" cy="4406760"/>
            <a:chOff x="304920" y="1905120"/>
            <a:chExt cx="8839080" cy="4406760"/>
          </a:xfrm>
        </p:grpSpPr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3048120" y="1905120"/>
              <a:ext cx="308772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04920" y="5486400"/>
              <a:ext cx="88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вет.</a:t>
              </a:r>
              <a:r>
                <a:rPr b="0" lang="ru-RU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Искомая точка принадлежит серединному перпендикуляру к отрезку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304920"/>
            <a:ext cx="9144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3196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номера верных утвержд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Сумма углов выпуклого четырехугольника не превосходит 36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Сумма двух противоположных углов параллелограмма равна 1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Средняя линия трапеции параллельна основаниям и меньше их сум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Если одна диагональ параллелограмма равна 5, то другая его диагональ равна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49528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,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304920"/>
            <a:ext cx="9144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3196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номера верных утвержд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Если все стороны четырехугольника равны и один из его углов равен 9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этот четырехугольник – квадра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Если в четырехугольнике диагонали перпендикулярны, то этот четырехугольник является ромб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Если сумма двух углов выпуклого четырехугольника равна 10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сумма двух оставшихся углов  равна 8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Если основания трапеции равны 6 и 8, то средняя линия этой трапеции равна 1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2120" y="49528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304920"/>
            <a:ext cx="9144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3196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номера верных утвержд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Около всякого треугольника можно описать не менее одной окруж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Если стороны треугольника равны 3, 4, 5, то радиус описанной около него окружности, равен 2,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В любой параллелограмм можно вписать окружнос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В любой правильный многоугольник можно вписать не более одной окруж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49528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1, 2,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30492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3196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номера верных утвержд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Прямая не имеет центра симметр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Правильный треугольник имеет центр симметр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Круг имеет центр симметр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Квадрат имеет четыре оси симметр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2120" y="49528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3,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304920"/>
            <a:ext cx="914400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3196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номера верных утвержд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Если две стороны одного треугольника пропорциональны двум сторонам другого треугольника, то такие треугольники подоб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Катет прямоугольного треугольника, лежащий против угла в 6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авен половине гипотенуз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Если катет и гипотенуза прямоугольного треугольника равны соответственно 5 и 13, то второй катет этого треугольника равен 1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Квадрат любой стороны треугольника не превосходит суммы квадратов двух других сторон без удвоенного произведения этих сторон на косинус угла между ни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3,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304920"/>
            <a:ext cx="9144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3196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номера верных утвержд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Площадь параллелограмма равна произведению его стороны на высо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Площадь треугольника равна произведению двух его сторон на синус угла между ни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Площадь трапеции равна произведению ее основания на высо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3196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Если диагонали ромба равна 3 и 4, то его площадь равна 6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2120" y="49528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.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04920" y="53352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 сторонах  угла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мечены точ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что точ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ит на сторон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точ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а сторон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чем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434340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перв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В=А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й). Следовательно, равны соответствующие 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з равенства этих углов следует равенство смежных угл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429000" y="2209680"/>
            <a:ext cx="2373480" cy="168588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казательст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04920" y="3049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=А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Е=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327672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первому признаку равенства треугольников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=А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ий). Следовательно, равны соответствующие сторо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х треугольник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3657600" y="914400"/>
            <a:ext cx="164628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04920" y="304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= 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жите, чт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" y="43434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перв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щая сторона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равны соответствующие сторо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их треугольник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3276720" y="1905120"/>
            <a:ext cx="23400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04920" y="1522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й стороне правильного треугольни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ледовательно отложены равные отрез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треугольник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же правильны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365760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равенства сторон правильного треугольника и равенства отрезк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едует равенство отрезк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перв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равны соответствующие сторо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х треугольников. Значит, 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же правильны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3124080" y="1523880"/>
            <a:ext cx="237348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ямой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ьте точк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авноудаленную от сторон угл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27240" y="1906560"/>
            <a:ext cx="3087720" cy="304812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533520" y="1905120"/>
            <a:ext cx="8153280" cy="3964680"/>
            <a:chOff x="533520" y="1905120"/>
            <a:chExt cx="8153280" cy="3964680"/>
          </a:xfrm>
        </p:grpSpPr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3048120" y="1905120"/>
              <a:ext cx="308772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533520" y="5410080"/>
              <a:ext cx="815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твет. Искомая точка принадлежит биссектрисе угла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OB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04920" y="1522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должении каждой стороны правильного треугольни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ледовательно отложены равные отрез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же правильны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" y="335268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равенства сторон правильного треугольни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равенства отрезк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едует равенство отрезк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з равенства углов правильного треугольник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равенство угл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перв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E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равны соответствующие сторо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х треугольников. Значит, треугольник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же правильны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22334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04920" y="304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секаются в точк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C 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4920" y="396252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равенства углов 1 и 2 следует равенство смежных с ними углов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втор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, равны соответствующие сторон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их треугольник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256536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04920" y="304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тырех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диагонал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уют со стороной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ые углы. Докажите, чт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" y="43434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второ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щая сторона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ен уг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, равны соответствующие стороны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их треугольник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3352680" y="1752480"/>
            <a:ext cx="25336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04920" y="304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тырех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 A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кажите, что угол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ен угл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" y="43434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угольник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 по третьему признаку равенства треугольников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щая сторона). Следовательно, равны соответствующие углы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247968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еугольник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ите медиану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3089520" cy="3048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124080" y="1828800"/>
            <a:ext cx="3087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7:51:09Z</dcterms:created>
  <dc:creator>*</dc:creator>
  <dc:description/>
  <dc:language>en-US</dc:language>
  <cp:lastModifiedBy>*</cp:lastModifiedBy>
  <dcterms:modified xsi:type="dcterms:W3CDTF">2013-04-28T07:08:05Z</dcterms:modified>
  <cp:revision>18</cp:revision>
  <dc:subject/>
  <dc:title>Презентация PowerPoint</dc:title>
</cp:coreProperties>
</file>