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1AF1-AB5D-40ED-94E6-A7108AE2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6F74-1D21-4AF5-BE29-9BEFD7FE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6A32-2874-448B-8690-AA8ACF038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BA23-78FA-40EE-92B1-DCB921AF2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A24B-2A3E-4D6A-8F52-E324DF9B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4532-0FE2-44DA-9FFA-4BC0FE6E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8A0C-A13E-4F81-AEE7-11141DE0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55C2-3A12-4CB3-88E0-CA044533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3CBB-18B7-4AFC-9EA7-0BDD9872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E7CE-556A-405A-8325-D87DCC62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D0CD-8D1A-49F7-8CAC-F277BC8D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BA4B-4917-47AF-9F92-99BA9D6A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0D2F-0CE7-4B7C-B199-439693F76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3200" indent="-32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номера верных утвержд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73200" indent="-32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Через любые две точки проходит не более одной прям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73200" indent="-324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ри пересечении двух прямых третьей прямой внутренние односторонние углы равны, то эти две прямые параллель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73200" indent="-324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ве параллельные прямые пересечены третьей прямой, то внутренние накрест лежащие углы составляют в сумме 180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73200" indent="-324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угол равен 3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смежный с ним угол равен 15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49528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,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304920"/>
            <a:ext cx="914400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3196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номера верных утвержд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Если две стороны одного треугольника пропорциональны двум сторонам другого треугольника, то такие треугольники подоб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Катет прямоугольного треугольника, лежащий против угла в 60, равен половине гипотенуз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Если катет и гипотенуза прямоугольного треугольника равны соответственно 5 и 13, то второй катет этого треугольника равен 1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Квадрат любой стороны треугольника не превосходит суммы квадратов двух других сторон без удвоенного произведения этих сторон на косинус угла между ни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,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04920"/>
            <a:ext cx="9144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3196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номера верных утвержд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Площадь параллелограмма равна произведению его стороны на высо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Площадь треугольника равна произведению двух его сторон на синус угла между ни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Площадь трапеции равна произведению ее основания на высо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Если диагонали ромба равна 3 и 4, то его площадь равна 6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49528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04920"/>
            <a:ext cx="9144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2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номера верных утвержд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24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Если две стороны одного треугольника соответственно равны  двум сторонам другого треугольника, то такие треугольники рав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24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В равнобедренном треугольнике медиана, проведенная к основанию, является одновременно биссектрисой и высот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24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Каждая сторона треугольника больше суммы двух других сторо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24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В треугольнике против большего угла лежит меньшая сторо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49528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304920"/>
            <a:ext cx="9144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3196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номера верных утвержд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 острых углов прямоугольного треугольника меньше 18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один из углов равнобедренного треугольника равен 10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один из оставшихся углов равен 4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й угол треугольника больше каждого внутреннего угла, не смежного с ни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е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которог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торон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аименьша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49528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, 2,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04920"/>
            <a:ext cx="914400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3196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номера верных утвержд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Если расстояние от центра окружности до прямой больше радиуса окружности, то эти прямая и окружность пересекаю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Касательная к окружности перпендикулярна радиусу этой окруж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Через любые три точки, не принадлежащие одной прямой, проходит не менее одной окруж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  Если радиусы двух окружностей равны 3 и 5, а расстояние между их центрами равно 1, то эти окружности пересекаются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54100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04920"/>
            <a:ext cx="9144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3196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номера верных утвержд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Вписанный угол измеряется величиной дуги окружности, на которую он опирает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Центральный угол измеряется половиной дуги окружности, на которую он опирает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Если вписанный угол равен 3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центральный угол, опирающийся на ту же дугу, равен 6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Если дуга окружности составляет 8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центральный угол, опирающийся на эту дугу, равен 8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49528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,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04920"/>
            <a:ext cx="9144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3196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номера верных утвержд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Сумма углов выпуклого четырехугольника не превосходит 36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Сумма двух противоположных углов параллелограмма равна 1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Средняя линия трапеции параллельна основаниям и меньше их сум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Если одна диагональ параллелограмма равна 5, то другая его диагональ равна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49528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,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04920"/>
            <a:ext cx="9144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3196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номера верных утвержд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Если все стороны четырехугольника равны и один из его углов равен 9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этот четырехугольник – квадра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Если в четырехугольнике диагонали перпендикулярны, то этот четырехугольник является ромб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Если сумма двух углов выпуклого четырехугольника равна 10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сумма двух оставшихся углов  равна 8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Если основания трапеции равны 6 и 8, то средняя линия этой трапеции равна 1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49528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04920"/>
            <a:ext cx="9144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3196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номера верных утвержд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Около всякого треугольника можно описать не менее одной окруж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Если стороны треугольника равны 3, 4, 5, то радиус описанной около него окружности, равен 2,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В любой параллелограмм можно вписать окружн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В любой правильный многоугольник можно вписать не более одной окруж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49528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, 2,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30492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3196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номера верных утвержд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Прямая не имеет центра симметр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Правильный треугольник имеет центр симметр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Круг имеет центр симметр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Квадрат имеет четыре оси симметр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49528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,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5:06:28Z</dcterms:created>
  <dc:creator>*</dc:creator>
  <dc:description/>
  <dc:language>en-US</dc:language>
  <cp:lastModifiedBy>*</cp:lastModifiedBy>
  <dcterms:modified xsi:type="dcterms:W3CDTF">2010-11-17T04:08:38Z</dcterms:modified>
  <cp:revision>17</cp:revision>
  <dc:subject/>
  <dc:title>Презентация PowerPoint</dc:title>
</cp:coreProperties>
</file>