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C5D7-AF14-4EB7-A375-2AEAC929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6A0-1B6C-4599-B427-7D032B11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7C0-2ABB-4900-BBC7-986D6F98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7D1F-1270-46F4-8C46-CC5E7D04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BAE-158D-46FB-80CE-5C84F9F6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243-44EB-4B42-99D2-CD04EF1D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99E-64BD-421E-A2EA-DF00E8BD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FC4-1038-44CA-8D1D-E237CC4B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0A9-10B1-4676-A34A-D5AE61E1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88B-49AA-4775-85DE-F990E0EB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54B-46A8-43FB-8E9B-EDE2D3F0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9572-0CC9-466D-91A5-763D2F4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DB05-A302-41B9-BE32-F1649DD44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9625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ывая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аем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93960" y="1609560"/>
            <a:ext cx="25225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имеет место равенств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этого равенства и равенств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и, следовательно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9880" y="1143000"/>
            <a:ext cx="163512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как вертикальные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18828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этого равенства и равенства углов 1 и 2 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6510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0988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ывая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учаем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5225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АВ = 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Докажите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38862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Треугольник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1384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962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, равны и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3212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733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чит, равны и смежные с ними углы 1 и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2338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352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2 равны как вертикальные.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8464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86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значит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1447920"/>
            <a:ext cx="23400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Докажите, ч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657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и, 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17008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657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бедренный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1635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0T06:30:53Z</dcterms:modified>
  <cp:revision>15</cp:revision>
  <dc:subject/>
  <dc:title>Презентация PowerPoint</dc:title>
</cp:coreProperties>
</file>