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20.png" ContentType="image/png"/>
  <Override PartName="/ppt/media/image5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1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53.wmf" ContentType="image/x-wmf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AD8-A0FE-429D-B7E8-A0BC057C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CD7-AFEE-4CE1-8159-066F46A8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F0F6-EDE4-4DA4-B331-C7228297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6D6-6BDC-4C13-9C04-D78BE12E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6E93-B36A-435E-A0CB-49023A62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126-B0BA-4348-AC91-3A58E2DE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A07A-5B65-41A7-82B2-621E496A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B81C-E049-4452-AB99-20DD9E5F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6C1-2A85-4ACF-995B-DD42BE1C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8C4-63E2-40C7-9450-CCE04483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5CC4-BEE2-455F-9C08-568F4117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4BB-B56C-4271-B659-6FC3F65F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69F6-7F4F-402B-A7E4-B207F4F01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2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3.wmf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0"/>
            <a:ext cx="883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дачи на построение являются одними из основных задач школьного курса геометрии, которые формируют необходимые практические навыки и развивают геометрические представления учащихся. К сожалению в рамках ГИА реализовать полное решение задач на построение с использованием циркуля и линейки довольно трудно. Здесь мы предлагаем задачи на построение фигур на клетчатой бумаге, решение которых не предполагает использование циркуля и линейки, а осуществляется непосредственно на рисунке клетчатой бума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ите прямую, расстояние до которой 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89160" cy="304668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609480" y="1752480"/>
            <a:ext cx="8305920" cy="3965040"/>
            <a:chOff x="609480" y="1752480"/>
            <a:chExt cx="8305920" cy="3965040"/>
          </a:xfrm>
        </p:grpSpPr>
        <p:sp>
          <p:nvSpPr>
            <p:cNvPr id="75" name=""/>
            <p:cNvSpPr/>
            <p:nvPr/>
          </p:nvSpPr>
          <p:spPr>
            <a:xfrm>
              <a:off x="609480" y="5257800"/>
              <a:ext cx="83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й прямой является пряма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2971800" y="1752480"/>
              <a:ext cx="3089160" cy="3046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89160" cy="30466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228600" y="228600"/>
            <a:ext cx="8686800" cy="825480"/>
            <a:chOff x="228600" y="228600"/>
            <a:chExt cx="8686800" cy="825480"/>
          </a:xfrm>
        </p:grpSpPr>
        <p:sp>
          <p:nvSpPr>
            <p:cNvPr id="79" name=""/>
            <p:cNvSpPr/>
            <p:nvPr/>
          </p:nvSpPr>
          <p:spPr>
            <a:xfrm>
              <a:off x="228600" y="228600"/>
              <a:ext cx="86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рез точ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дите прямую, расстояние до которой от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2590920" y="609480"/>
            <a:ext cx="457200" cy="43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90920" y="609480"/>
                      <a:ext cx="457200" cy="43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" name=""/>
          <p:cNvGrpSpPr/>
          <p:nvPr/>
        </p:nvGrpSpPr>
        <p:grpSpPr>
          <a:xfrm>
            <a:off x="609480" y="1752480"/>
            <a:ext cx="8305920" cy="4015440"/>
            <a:chOff x="609480" y="1752480"/>
            <a:chExt cx="8305920" cy="4015440"/>
          </a:xfrm>
        </p:grpSpPr>
        <p:sp>
          <p:nvSpPr>
            <p:cNvPr id="83" name=""/>
            <p:cNvSpPr/>
            <p:nvPr/>
          </p:nvSpPr>
          <p:spPr>
            <a:xfrm>
              <a:off x="609480" y="5257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и прямыми являются прямы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2971800" y="1752480"/>
              <a:ext cx="3089160" cy="304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8600" y="228600"/>
            <a:ext cx="8686800" cy="825480"/>
            <a:chOff x="228600" y="228600"/>
            <a:chExt cx="8686800" cy="825480"/>
          </a:xfrm>
        </p:grpSpPr>
        <p:sp>
          <p:nvSpPr>
            <p:cNvPr id="86" name=""/>
            <p:cNvSpPr/>
            <p:nvPr/>
          </p:nvSpPr>
          <p:spPr>
            <a:xfrm>
              <a:off x="228600" y="228600"/>
              <a:ext cx="86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рез точ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дите прямую, расстояние до которой от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2590920" y="609480"/>
            <a:ext cx="457200" cy="43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90920" y="609480"/>
                      <a:ext cx="457200" cy="43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743200" y="1752480"/>
            <a:ext cx="3089160" cy="304812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609480" y="1752480"/>
            <a:ext cx="8305920" cy="4015440"/>
            <a:chOff x="609480" y="1752480"/>
            <a:chExt cx="8305920" cy="4015440"/>
          </a:xfrm>
        </p:grpSpPr>
        <p:sp>
          <p:nvSpPr>
            <p:cNvPr id="91" name=""/>
            <p:cNvSpPr/>
            <p:nvPr/>
          </p:nvSpPr>
          <p:spPr>
            <a:xfrm>
              <a:off x="609480" y="5257800"/>
              <a:ext cx="830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ыми прямыми являются прямы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2743200" y="1752480"/>
              <a:ext cx="3089160" cy="304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28600" y="228600"/>
            <a:ext cx="8686800" cy="825480"/>
            <a:chOff x="228600" y="228600"/>
            <a:chExt cx="8686800" cy="825480"/>
          </a:xfrm>
        </p:grpSpPr>
        <p:sp>
          <p:nvSpPr>
            <p:cNvPr id="94" name=""/>
            <p:cNvSpPr/>
            <p:nvPr/>
          </p:nvSpPr>
          <p:spPr>
            <a:xfrm>
              <a:off x="228600" y="228600"/>
              <a:ext cx="86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Через точ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дите прямую, расстояние до которой от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2525760" y="609480"/>
            <a:ext cx="588960" cy="43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25760" y="609480"/>
                      <a:ext cx="588960" cy="43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743200" y="1752480"/>
            <a:ext cx="3089160" cy="30481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609480" y="1752480"/>
            <a:ext cx="8305920" cy="3965040"/>
            <a:chOff x="609480" y="1752480"/>
            <a:chExt cx="8305920" cy="3965040"/>
          </a:xfrm>
        </p:grpSpPr>
        <p:sp>
          <p:nvSpPr>
            <p:cNvPr id="99" name=""/>
            <p:cNvSpPr/>
            <p:nvPr/>
          </p:nvSpPr>
          <p:spPr>
            <a:xfrm>
              <a:off x="609480" y="5257800"/>
              <a:ext cx="83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й прямой является пряма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2743200" y="1752480"/>
              <a:ext cx="3089160" cy="304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ите прямую, расстояния до которой от точе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089520" cy="30463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609480" y="1600200"/>
            <a:ext cx="8305920" cy="4117320"/>
            <a:chOff x="609480" y="1600200"/>
            <a:chExt cx="8305920" cy="4117320"/>
          </a:xfrm>
        </p:grpSpPr>
        <p:sp>
          <p:nvSpPr>
            <p:cNvPr id="104" name=""/>
            <p:cNvSpPr/>
            <p:nvPr/>
          </p:nvSpPr>
          <p:spPr>
            <a:xfrm>
              <a:off x="609480" y="5257800"/>
              <a:ext cx="83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ой прямой является пряма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895480" y="1600200"/>
              <a:ext cx="3089520" cy="3046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точк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дите прямую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удаленную от точе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.е. такую, расстояния до которой от точе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27240" y="1905120"/>
            <a:ext cx="3087720" cy="304776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609480" y="1905120"/>
            <a:ext cx="8305920" cy="3812400"/>
            <a:chOff x="609480" y="1905120"/>
            <a:chExt cx="8305920" cy="38124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3048120" y="1905120"/>
              <a:ext cx="308772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09480" y="5257800"/>
              <a:ext cx="830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ая прямая проходит через середину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ьте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оудаленную от сторон уг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27240" y="1906560"/>
            <a:ext cx="30877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533520" y="1905120"/>
            <a:ext cx="8153280" cy="3964680"/>
            <a:chOff x="533520" y="1905120"/>
            <a:chExt cx="8153280" cy="396468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3048120" y="1905120"/>
              <a:ext cx="308772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33520" y="5410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Искомая точка принадлежит биссектрисе угл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ите медиа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3089520" cy="3048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3087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ите высот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089160" cy="3048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43200" y="1752480"/>
            <a:ext cx="3087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ите биссектрис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89160" cy="3048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971800" y="1752480"/>
            <a:ext cx="3087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отрез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ина которого рав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ороны квадратных клеток равны 1)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089160" cy="304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7086600" y="228600"/>
          <a:ext cx="546120" cy="39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228600"/>
                    <a:ext cx="5461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819520" y="1295280"/>
            <a:ext cx="3087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параллелограмм, тремя вершинами которого являются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верши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ходится в узле сетки. Сколько решений имеет задача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089520" cy="304632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38080" y="1828800"/>
            <a:ext cx="5145120" cy="4117320"/>
            <a:chOff x="838080" y="1828800"/>
            <a:chExt cx="5145120" cy="4117320"/>
          </a:xfrm>
        </p:grpSpPr>
        <p:sp>
          <p:nvSpPr>
            <p:cNvPr id="128" name=""/>
            <p:cNvSpPr/>
            <p:nvPr/>
          </p:nvSpPr>
          <p:spPr>
            <a:xfrm>
              <a:off x="838080" y="54864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2895480" y="1828800"/>
              <a:ext cx="3087720" cy="307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прямоугольник, диагональю которого является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верши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ходятся в узлах сетки. Сколько решений имеет задача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089160" cy="304632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38080" y="1828800"/>
            <a:ext cx="5221440" cy="4117320"/>
            <a:chOff x="838080" y="1828800"/>
            <a:chExt cx="5221440" cy="4117320"/>
          </a:xfrm>
        </p:grpSpPr>
        <p:sp>
          <p:nvSpPr>
            <p:cNvPr id="133" name=""/>
            <p:cNvSpPr/>
            <p:nvPr/>
          </p:nvSpPr>
          <p:spPr>
            <a:xfrm>
              <a:off x="838080" y="548640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2971800" y="1828800"/>
              <a:ext cx="3087720" cy="304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м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ерединами сторон которого являются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089520" cy="3048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666880" y="1752480"/>
            <a:ext cx="321624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имметричный треугольни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сительно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089160" cy="3046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3087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имметричный треугольни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носительно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089160" cy="30463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3087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ьте все точки, расположенные в узлах сетки, и удаленные 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сстояние, меньшее дву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3089160" cy="3046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3089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ьте все точки, расположенные в узлах сетки, и удаленные 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сстояние, большее двух, но меньшее тре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3089160" cy="3046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048120" y="1828800"/>
            <a:ext cx="308916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ьте все точки, расположенные в узлах сетки, и удаленные 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сстояние, в два раза большее, чем 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111480" cy="3046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312120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3111480" cy="304668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228600" y="228600"/>
            <a:ext cx="8686800" cy="825480"/>
            <a:chOff x="228600" y="228600"/>
            <a:chExt cx="8686800" cy="825480"/>
          </a:xfrm>
        </p:grpSpPr>
        <p:sp>
          <p:nvSpPr>
            <p:cNvPr id="155" name=""/>
            <p:cNvSpPr/>
            <p:nvPr/>
          </p:nvSpPr>
          <p:spPr>
            <a:xfrm>
              <a:off x="228600" y="228600"/>
              <a:ext cx="868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метьте все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расположенные в узлах сетки, для которых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1905120" y="609480"/>
            <a:ext cx="322200" cy="38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05120" y="609480"/>
                      <a:ext cx="3222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2971800" y="1981080"/>
            <a:ext cx="3121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зите прямоугольник со сторон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лощадь которого равна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27240" y="1447920"/>
            <a:ext cx="3087720" cy="3047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27240" y="1447920"/>
            <a:ext cx="30877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угол, танген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089160" cy="3046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312408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зите параллелограмм со сторон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лощадь которого равна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27240" y="1447920"/>
            <a:ext cx="3087720" cy="3047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027240" y="1447920"/>
            <a:ext cx="3087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луч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P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ожите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Q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ый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308916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3087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устите перпендикуля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у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089160" cy="3048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819520" y="1600200"/>
            <a:ext cx="30877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едите пряму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ующую с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ол 4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089160" cy="304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3087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йте биссектрис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089520" cy="3046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666880" y="1371600"/>
            <a:ext cx="3087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ьте точки, удаленные от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сстояние, равно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ороны квадратных клеток равны 1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895480" y="609480"/>
          <a:ext cx="54612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609480"/>
                    <a:ext cx="5461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895480" y="1981080"/>
            <a:ext cx="3124440" cy="3083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895480" y="1981080"/>
            <a:ext cx="31244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ьте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удаленную от точе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27240" y="1906560"/>
            <a:ext cx="30877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304920" y="1905120"/>
            <a:ext cx="8839080" cy="4406760"/>
            <a:chOff x="304920" y="1905120"/>
            <a:chExt cx="8839080" cy="440676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048120" y="1905120"/>
              <a:ext cx="308772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04920" y="548640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ая точка принадлежит серединному перпендикуляру к отрез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1-01-17T09:58:05Z</dcterms:modified>
  <cp:revision>51</cp:revision>
  <dc:subject/>
  <dc:title>Презентация PowerPoint</dc:title>
</cp:coreProperties>
</file>