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109.wmf" ContentType="image/x-wmf"/>
  <Override PartName="/ppt/media/image54.png" ContentType="image/png"/>
  <Override PartName="/ppt/media/image108.wmf" ContentType="image/x-wmf"/>
  <Override PartName="/ppt/media/image53.png" ContentType="image/png"/>
  <Override PartName="/ppt/media/image52.jpeg" ContentType="image/jpeg"/>
  <Override PartName="/ppt/media/image13.png" ContentType="image/png"/>
  <Override PartName="/ppt/media/image1.png" ContentType="image/png"/>
  <Override PartName="/ppt/media/image51.jpeg" ContentType="image/jpeg"/>
  <Override PartName="/ppt/media/image50.png" ContentType="image/png"/>
  <Override PartName="/ppt/media/image49.png" ContentType="image/png"/>
  <Override PartName="/ppt/media/image10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16.png" ContentType="image/png"/>
  <Override PartName="/ppt/media/image81.png" ContentType="image/png"/>
  <Override PartName="/ppt/media/image27.png" ContentType="image/png"/>
  <Override PartName="/ppt/media/image92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80.png" ContentType="image/png"/>
  <Override PartName="/ppt/media/image26.png" ContentType="image/png"/>
  <Override PartName="/ppt/media/image91.png" ContentType="image/png"/>
  <Override PartName="/ppt/media/image32.png" ContentType="image/png"/>
  <Override PartName="/ppt/media/image74.png" ContentType="image/png"/>
  <Override PartName="/ppt/media/image121.wmf" ContentType="image/x-wmf"/>
  <Override PartName="/ppt/media/image75.png" ContentType="image/png"/>
  <Override PartName="/ppt/media/image76.png" ContentType="image/png"/>
  <Override PartName="/ppt/media/image77.png" ContentType="image/png"/>
  <Override PartName="/ppt/media/image87.png" ContentType="image/png"/>
  <Override PartName="/ppt/media/image88.png" ContentType="image/png"/>
  <Override PartName="/ppt/media/image97.png" ContentType="image/png"/>
  <Override PartName="/ppt/media/image104.png" ContentType="image/png"/>
  <Override PartName="/ppt/media/image60.png" ContentType="image/png"/>
  <Override PartName="/ppt/media/image98.png" ContentType="image/png"/>
  <Override PartName="/ppt/media/image105.png" ContentType="image/png"/>
  <Override PartName="/ppt/media/image61.png" ContentType="image/png"/>
  <Override PartName="/ppt/media/image99.png" ContentType="image/png"/>
  <Override PartName="/ppt/media/image62.png" ContentType="image/png"/>
  <Override PartName="/ppt/media/image79.png" ContentType="image/png"/>
  <Override PartName="/ppt/media/image101.png" ContentType="image/png"/>
  <Override PartName="/ppt/media/image78.png" ContentType="image/png"/>
  <Override PartName="/ppt/media/image120.wmf" ContentType="image/x-wmf"/>
  <Override PartName="/ppt/media/image73.png" ContentType="image/png"/>
  <Override PartName="/ppt/media/image96.png" ContentType="image/png"/>
  <Override PartName="/ppt/media/image103.png" ContentType="image/png"/>
  <Override PartName="/ppt/media/image116.png" ContentType="image/png"/>
  <Override PartName="/ppt/media/image72.png" ContentType="image/png"/>
  <Override PartName="/ppt/media/image95.png" ContentType="image/png"/>
  <Override PartName="/ppt/media/image102.png" ContentType="image/png"/>
  <Override PartName="/ppt/media/image115.png" ContentType="image/png"/>
  <Override PartName="/ppt/media/image71.png" ContentType="image/png"/>
  <Override PartName="/ppt/media/image114.png" ContentType="image/png"/>
  <Override PartName="/ppt/media/image70.png" ContentType="image/png"/>
  <Override PartName="/ppt/media/image113.wmf" ContentType="image/x-wmf"/>
  <Override PartName="/ppt/media/image66.png" ContentType="image/png"/>
  <Override PartName="/ppt/media/image112.png" ContentType="image/png"/>
  <Override PartName="/ppt/media/image89.png" ContentType="image/png"/>
  <Override PartName="/ppt/media/image111.png" ContentType="image/png"/>
  <Override PartName="/ppt/media/image106.wmf" ContentType="image/x-wmf"/>
  <Override PartName="/ppt/media/image22.png" ContentType="image/png"/>
  <Override PartName="/ppt/media/image69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119.wmf" ContentType="image/x-wmf"/>
  <Override PartName="/ppt/media/image65.png" ContentType="image/png"/>
  <Override PartName="/ppt/media/image64.png" ContentType="image/png"/>
  <Override PartName="/ppt/media/image117.wmf" ContentType="image/x-wmf"/>
  <Override PartName="/ppt/media/image63.png" ContentType="image/png"/>
  <Override PartName="/ppt/media/image23.png" ContentType="image/png"/>
  <Override PartName="/ppt/media/image59.png" ContentType="image/png"/>
  <Override PartName="/ppt/media/image110.png" ContentType="image/png"/>
  <Override PartName="/ppt/media/image24.png" ContentType="image/png"/>
  <Override PartName="/ppt/media/image118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5.png" ContentType="image/png"/>
  <Override PartName="/ppt/media/image90.png" ContentType="image/png"/>
  <Override PartName="/ppt/media/image2.png" ContentType="image/png"/>
  <Override PartName="/ppt/media/image1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7C20C-F138-4F07-9276-D92615A7ADA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нажатия левой клавиши мыш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нажатия левой клавиши мыш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нажатия левой клавиши мыш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нажатия левой клавиши мыш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нажатия левой клавиши мыш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нажатия левой клавиши мыш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 режиме слайдов астроиду можно посмотреть в движен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 режиме слайдов гипоциклоиду можно посмотреть в движен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нажатия левой клавиши мыш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нажатия левой клавиши мыш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формулировки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формулировки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и решения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 режиме слайдов циклоиду можно посмотреть в движен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нажатия левой клавиши мыш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нажатия левой клавиши мыш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5BD9-ED25-4D02-8EF2-3BA795935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A8C5-BFB9-4FAD-B661-09D2973D6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F8C3-BB67-4CEB-9D0F-7BFC6E4B5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5660-875C-4712-8BBB-1E1C09ED5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D23E-C21A-4CE1-A018-FF773543F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0885-78F7-4437-8AC4-62E59AA67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C12D-DD9D-46C2-B37B-F981EA58B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4934-AF6E-409E-8D4A-1C94A9D06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79D9-6588-4309-AA28-1128573F0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155F-FED2-4A98-915E-8CFBE3AE8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7DFE-51A1-4421-ACE2-31007A622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B99E-13D6-4CC4-9C79-8EF999182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8F15C-D2EF-4C70-992F-B77441240D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5.xml"/><Relationship Id="rId1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74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6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78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image" Target="../media/image81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83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image" Target="../media/image85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image" Target="../media/image87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image" Target="../media/image89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0.png"/><Relationship Id="rId2" Type="http://schemas.openxmlformats.org/officeDocument/2006/relationships/image" Target="../media/image91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5.xml"/><Relationship Id="rId1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2.png"/><Relationship Id="rId2" Type="http://schemas.openxmlformats.org/officeDocument/2006/relationships/image" Target="../media/image93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4.png"/><Relationship Id="rId2" Type="http://schemas.openxmlformats.org/officeDocument/2006/relationships/image" Target="../media/image95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image" Target="../media/image97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8.png"/><Relationship Id="rId2" Type="http://schemas.openxmlformats.org/officeDocument/2006/relationships/image" Target="../media/image99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0.png"/><Relationship Id="rId2" Type="http://schemas.openxmlformats.org/officeDocument/2006/relationships/image" Target="../media/image101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02.png"/><Relationship Id="rId2" Type="http://schemas.openxmlformats.org/officeDocument/2006/relationships/image" Target="../media/image103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4.png"/><Relationship Id="rId2" Type="http://schemas.openxmlformats.org/officeDocument/2006/relationships/image" Target="../media/image10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6.wmf"/><Relationship Id="rId5" Type="http://schemas.openxmlformats.org/officeDocument/2006/relationships/image" Target="../media/image107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108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10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109.wmf"/><Relationship Id="rId12" Type="http://schemas.openxmlformats.org/officeDocument/2006/relationships/image" Target="../media/image110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11.png"/><Relationship Id="rId2" Type="http://schemas.openxmlformats.org/officeDocument/2006/relationships/image" Target="../media/image11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13.wmf"/><Relationship Id="rId5" Type="http://schemas.openxmlformats.org/officeDocument/2006/relationships/image" Target="../media/image114.png"/><Relationship Id="rId6" Type="http://schemas.openxmlformats.org/officeDocument/2006/relationships/slideLayout" Target="../slideLayouts/slideLayout5.xml"/><Relationship Id="rId7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15.png"/><Relationship Id="rId2" Type="http://schemas.openxmlformats.org/officeDocument/2006/relationships/image" Target="../media/image11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17.wmf"/><Relationship Id="rId5" Type="http://schemas.openxmlformats.org/officeDocument/2006/relationships/image" Target="../media/image11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9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1.wmf"/><Relationship Id="rId7" Type="http://schemas.openxmlformats.org/officeDocument/2006/relationships/slideLayout" Target="../slideLayouts/slideLayout5.xml"/><Relationship Id="rId8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еальная математ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1523880"/>
            <a:ext cx="9067680" cy="48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я история развития математики показывает, что математические понятия, методы и теоремы не возникают из ничего, а основываются на исследовании реальных явлений. В этом смысле математика является реальной наукой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ин «реальная математика» носит условный характер и подчеркивает связь математики с реальной действительностью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Предлагаемое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собие содержит более 400 геометрических задач, которые мы условно относим к реальной математике. Это не только задачи с практическим содержанием, но и задачи, полученные из них абстрагированием от конкретного сюжета. Среди этих задач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на нахождение расстояний, углов, площадей и объёмов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на изображение и моделирование геометрических фигур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ческие и научно-популярные задачи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на нахождение наибольших и наименьших значений и др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47920" y="6094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52480" y="533520"/>
            <a:ext cx="5867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.А.Смирнов, И.М.Смирнова, И.В.Ященк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ЦНМО, 20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6094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арисуйте траекторию движения вершины правильного шестиугольника, катящегося по прямо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195560" y="2281320"/>
            <a:ext cx="6752880" cy="22986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219320" y="2286000"/>
            <a:ext cx="6753240" cy="23097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1219320" y="2286000"/>
            <a:ext cx="675324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Кардиоид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45720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ектория движения точки, закрепленной на окружности, катящейся с внешней стороны по другой окружности того же радиуса, называется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кардиоид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095880" y="2743200"/>
            <a:ext cx="2949840" cy="128592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304920" y="1523880"/>
            <a:ext cx="8759880" cy="3848400"/>
            <a:chOff x="304920" y="1523880"/>
            <a:chExt cx="8759880" cy="3848400"/>
          </a:xfrm>
        </p:grpSpPr>
        <p:sp>
          <p:nvSpPr>
            <p:cNvPr id="114" name=""/>
            <p:cNvSpPr/>
            <p:nvPr/>
          </p:nvSpPr>
          <p:spPr>
            <a:xfrm>
              <a:off x="304920" y="1600200"/>
              <a:ext cx="4267080" cy="377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Для изображения кардиоиды р</a:t>
              </a: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зделим </a:t>
              </a: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окружность</a:t>
              </a: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на 8 равных частей точками </a:t>
              </a:r>
              <a:r>
                <a:rPr b="0" i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</a:t>
              </a:r>
              <a:r>
                <a:rPr b="0" lang="ru-RU" sz="22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0" i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...</a:t>
              </a: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0" i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А</a:t>
              </a:r>
              <a:r>
                <a:rPr b="0" lang="ru-RU" sz="22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8</a:t>
              </a:r>
              <a:r>
                <a:rPr b="0" i="1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В.</a:t>
              </a:r>
              <a:r>
                <a:rPr b="0" i="1" lang="ru-RU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Выясните, где будет находиться отмеченная точка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, когда окружность, катящаяся по прямой, достигнет точки: а)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2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; б)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lang="en-US" sz="22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в)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2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г)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ru-RU" sz="2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 д)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ru-RU" sz="2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 е)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ru-RU" sz="22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 ж)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ru-RU" sz="22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</a:rPr>
                <a:t>Соедините полученные точки плавной кривой.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5" name="" descr=""/>
            <p:cNvPicPr/>
            <p:nvPr/>
          </p:nvPicPr>
          <p:blipFill>
            <a:blip r:embed="rId2"/>
            <a:stretch/>
          </p:blipFill>
          <p:spPr>
            <a:xfrm>
              <a:off x="4800600" y="1523880"/>
              <a:ext cx="4264200" cy="3786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6" name=""/>
          <p:cNvGrpSpPr/>
          <p:nvPr/>
        </p:nvGrpSpPr>
        <p:grpSpPr>
          <a:xfrm>
            <a:off x="228600" y="1523880"/>
            <a:ext cx="8823240" cy="4117320"/>
            <a:chOff x="228600" y="1523880"/>
            <a:chExt cx="8823240" cy="4117320"/>
          </a:xfrm>
        </p:grpSpPr>
        <p:sp>
          <p:nvSpPr>
            <p:cNvPr id="117" name=""/>
            <p:cNvSpPr/>
            <p:nvPr/>
          </p:nvSpPr>
          <p:spPr>
            <a:xfrm>
              <a:off x="228600" y="518148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а) запад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8" name="" descr=""/>
            <p:cNvPicPr/>
            <p:nvPr/>
          </p:nvPicPr>
          <p:blipFill>
            <a:blip r:embed="rId3"/>
            <a:stretch/>
          </p:blipFill>
          <p:spPr>
            <a:xfrm>
              <a:off x="4724280" y="1523880"/>
              <a:ext cx="4327560" cy="3786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9" name=""/>
          <p:cNvGrpSpPr/>
          <p:nvPr/>
        </p:nvGrpSpPr>
        <p:grpSpPr>
          <a:xfrm>
            <a:off x="2438280" y="1523880"/>
            <a:ext cx="6613560" cy="4117320"/>
            <a:chOff x="2438280" y="1523880"/>
            <a:chExt cx="6613560" cy="4117320"/>
          </a:xfrm>
        </p:grpSpPr>
        <p:sp>
          <p:nvSpPr>
            <p:cNvPr id="120" name=""/>
            <p:cNvSpPr/>
            <p:nvPr/>
          </p:nvSpPr>
          <p:spPr>
            <a:xfrm>
              <a:off x="2438280" y="518148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б) восток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1" name="" descr=""/>
            <p:cNvPicPr/>
            <p:nvPr/>
          </p:nvPicPr>
          <p:blipFill>
            <a:blip r:embed="rId4"/>
            <a:stretch/>
          </p:blipFill>
          <p:spPr>
            <a:xfrm>
              <a:off x="4724280" y="1523880"/>
              <a:ext cx="4327560" cy="3786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" name=""/>
          <p:cNvGrpSpPr/>
          <p:nvPr/>
        </p:nvGrpSpPr>
        <p:grpSpPr>
          <a:xfrm>
            <a:off x="304920" y="1523880"/>
            <a:ext cx="8746920" cy="4574520"/>
            <a:chOff x="304920" y="1523880"/>
            <a:chExt cx="8746920" cy="4574520"/>
          </a:xfrm>
        </p:grpSpPr>
        <p:sp>
          <p:nvSpPr>
            <p:cNvPr id="123" name=""/>
            <p:cNvSpPr/>
            <p:nvPr/>
          </p:nvSpPr>
          <p:spPr>
            <a:xfrm>
              <a:off x="304920" y="563868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в) восток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4" name="" descr=""/>
            <p:cNvPicPr/>
            <p:nvPr/>
          </p:nvPicPr>
          <p:blipFill>
            <a:blip r:embed="rId5"/>
            <a:stretch/>
          </p:blipFill>
          <p:spPr>
            <a:xfrm>
              <a:off x="4724280" y="1523880"/>
              <a:ext cx="4327560" cy="3786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5" name=""/>
          <p:cNvGrpSpPr/>
          <p:nvPr/>
        </p:nvGrpSpPr>
        <p:grpSpPr>
          <a:xfrm>
            <a:off x="1676520" y="1523880"/>
            <a:ext cx="7375320" cy="4574520"/>
            <a:chOff x="1676520" y="1523880"/>
            <a:chExt cx="7375320" cy="4574520"/>
          </a:xfrm>
        </p:grpSpPr>
        <p:sp>
          <p:nvSpPr>
            <p:cNvPr id="126" name=""/>
            <p:cNvSpPr/>
            <p:nvPr/>
          </p:nvSpPr>
          <p:spPr>
            <a:xfrm>
              <a:off x="1676520" y="563868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г) юг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7" name="" descr=""/>
            <p:cNvPicPr/>
            <p:nvPr/>
          </p:nvPicPr>
          <p:blipFill>
            <a:blip r:embed="rId6"/>
            <a:stretch/>
          </p:blipFill>
          <p:spPr>
            <a:xfrm>
              <a:off x="4724280" y="1523880"/>
              <a:ext cx="4327560" cy="3786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8" name=""/>
          <p:cNvGrpSpPr/>
          <p:nvPr/>
        </p:nvGrpSpPr>
        <p:grpSpPr>
          <a:xfrm>
            <a:off x="2590920" y="1538280"/>
            <a:ext cx="6460920" cy="4560120"/>
            <a:chOff x="2590920" y="1538280"/>
            <a:chExt cx="6460920" cy="4560120"/>
          </a:xfrm>
        </p:grpSpPr>
        <p:sp>
          <p:nvSpPr>
            <p:cNvPr id="129" name=""/>
            <p:cNvSpPr/>
            <p:nvPr/>
          </p:nvSpPr>
          <p:spPr>
            <a:xfrm>
              <a:off x="2590920" y="563868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д) север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0" name="" descr=""/>
            <p:cNvPicPr/>
            <p:nvPr/>
          </p:nvPicPr>
          <p:blipFill>
            <a:blip r:embed="rId7"/>
            <a:stretch/>
          </p:blipFill>
          <p:spPr>
            <a:xfrm>
              <a:off x="4724280" y="1538280"/>
              <a:ext cx="4327560" cy="3786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" name=""/>
          <p:cNvGrpSpPr/>
          <p:nvPr/>
        </p:nvGrpSpPr>
        <p:grpSpPr>
          <a:xfrm>
            <a:off x="228600" y="1523880"/>
            <a:ext cx="8823240" cy="5031720"/>
            <a:chOff x="228600" y="1523880"/>
            <a:chExt cx="8823240" cy="5031720"/>
          </a:xfrm>
        </p:grpSpPr>
        <p:sp>
          <p:nvSpPr>
            <p:cNvPr id="132" name=""/>
            <p:cNvSpPr/>
            <p:nvPr/>
          </p:nvSpPr>
          <p:spPr>
            <a:xfrm>
              <a:off x="228600" y="609588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е) юг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3" name="" descr=""/>
            <p:cNvPicPr/>
            <p:nvPr/>
          </p:nvPicPr>
          <p:blipFill>
            <a:blip r:embed="rId8"/>
            <a:stretch/>
          </p:blipFill>
          <p:spPr>
            <a:xfrm>
              <a:off x="4724280" y="1523880"/>
              <a:ext cx="4327560" cy="3786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4" name=""/>
          <p:cNvGrpSpPr/>
          <p:nvPr/>
        </p:nvGrpSpPr>
        <p:grpSpPr>
          <a:xfrm>
            <a:off x="1143000" y="1538280"/>
            <a:ext cx="7908840" cy="5017320"/>
            <a:chOff x="1143000" y="1538280"/>
            <a:chExt cx="7908840" cy="5017320"/>
          </a:xfrm>
        </p:grpSpPr>
        <p:sp>
          <p:nvSpPr>
            <p:cNvPr id="135" name=""/>
            <p:cNvSpPr/>
            <p:nvPr/>
          </p:nvSpPr>
          <p:spPr>
            <a:xfrm>
              <a:off x="1143000" y="609588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ж) север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9"/>
            <a:stretch/>
          </p:blipFill>
          <p:spPr>
            <a:xfrm>
              <a:off x="4724280" y="1538280"/>
              <a:ext cx="4327560" cy="3786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7" name="" descr=""/>
          <p:cNvPicPr/>
          <p:nvPr/>
        </p:nvPicPr>
        <p:blipFill>
          <a:blip r:embed="rId10"/>
          <a:stretch/>
        </p:blipFill>
        <p:spPr>
          <a:xfrm>
            <a:off x="4724280" y="1538280"/>
            <a:ext cx="432756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6094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рисуйте траекторию движения вершины правильного треугольника, катящегося с внешней стороны по другому правильному треугольник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429000" y="2895480"/>
            <a:ext cx="2340000" cy="15192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2209680" y="2057400"/>
            <a:ext cx="3624480" cy="33210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2209680" y="1905120"/>
            <a:ext cx="3656160" cy="36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6094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рисуйте траекторию движения вершины квадрата, катящегося с внешней стороны по другому квадрат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124080" y="2895480"/>
            <a:ext cx="2927520" cy="15400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1981080" y="1981080"/>
            <a:ext cx="4124520" cy="35658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1523880" y="1523880"/>
            <a:ext cx="4627800" cy="40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6094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рисуйте траекторию движения вершины правильного шестиугольника, катящегося с внешней стороны по другому правильному шестиугольник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CDE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957400" y="2895480"/>
            <a:ext cx="3227400" cy="22669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057400" y="2286000"/>
            <a:ext cx="4168800" cy="39337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1752480" y="2209680"/>
            <a:ext cx="4551480" cy="39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52280" y="60948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рисуйте траекторию движения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закреплен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окружности, катящейся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 внешней сторон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ругой окружности, если отношение радиусо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вно 2: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851200" y="2895480"/>
            <a:ext cx="3440160" cy="21513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2133720" y="2057400"/>
            <a:ext cx="420048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Астроид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6094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ектория движения точки, закрепленной на окружности, катящейся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нутр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ругой окружност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4 раза большег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диуса, называется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астро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идой.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рисуйте эту криву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819520" y="2438280"/>
            <a:ext cx="3504960" cy="32385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2514600" y="2133720"/>
            <a:ext cx="3814920" cy="38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2280" y="609480"/>
            <a:ext cx="8991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вая, которую описывает точка, закрепленная на окружности, катящейся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 внутренней сторон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ругой окружнос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азывается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гипо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циклоидо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При этом отношение радиусов может быть различным. Нарисуйте гипоциклоиду, когда отношение радиусов равно 2: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743200" y="2743200"/>
            <a:ext cx="3697200" cy="33116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2743200" y="2514600"/>
            <a:ext cx="369720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52280" y="60948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окажите, что траекторией движения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закреплен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окружности, катящейся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нутр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ругой окружности в два раза большего радиуса, является диамет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519360" y="2413080"/>
            <a:ext cx="2105280" cy="2035080"/>
          </a:xfrm>
          <a:prstGeom prst="rect">
            <a:avLst/>
          </a:prstGeom>
          <a:ln w="0">
            <a:noFill/>
          </a:ln>
        </p:spPr>
      </p:pic>
      <p:grpSp>
        <p:nvGrpSpPr>
          <p:cNvPr id="168" name=""/>
          <p:cNvGrpSpPr/>
          <p:nvPr/>
        </p:nvGrpSpPr>
        <p:grpSpPr>
          <a:xfrm>
            <a:off x="0" y="2413080"/>
            <a:ext cx="9144000" cy="4233960"/>
            <a:chOff x="0" y="2413080"/>
            <a:chExt cx="9144000" cy="4233960"/>
          </a:xfrm>
        </p:grpSpPr>
        <p:sp>
          <p:nvSpPr>
            <p:cNvPr id="169" name=""/>
            <p:cNvSpPr/>
            <p:nvPr/>
          </p:nvSpPr>
          <p:spPr>
            <a:xfrm>
              <a:off x="0" y="4724280"/>
              <a:ext cx="91440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: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Пусть катящаяся окружность переместилась из точк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 точку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 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ее центр. Обозначим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точку пересечения диаметр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B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 этой окружностью. Тогда угол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PD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 два раза больше угл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OD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ледовательно, дуг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D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D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равны, т.е.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 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точка, закрепленная на катящейся окружности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0" name="" descr=""/>
            <p:cNvPicPr/>
            <p:nvPr/>
          </p:nvPicPr>
          <p:blipFill>
            <a:blip r:embed="rId2"/>
            <a:stretch/>
          </p:blipFill>
          <p:spPr>
            <a:xfrm>
              <a:off x="3352680" y="2413080"/>
              <a:ext cx="2340000" cy="2035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Паркет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6094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кетам посвящены несколько картин голландского художника Мариуса Эшера (1898-1972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1062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3" descr=""/>
          <p:cNvPicPr/>
          <p:nvPr/>
        </p:nvPicPr>
        <p:blipFill>
          <a:blip r:embed="rId1"/>
          <a:stretch/>
        </p:blipFill>
        <p:spPr>
          <a:xfrm>
            <a:off x="228600" y="2590920"/>
            <a:ext cx="4753080" cy="3200400"/>
          </a:xfrm>
          <a:prstGeom prst="rect">
            <a:avLst/>
          </a:prstGeom>
          <a:ln w="0">
            <a:noFill/>
          </a:ln>
        </p:spPr>
      </p:pic>
      <p:pic>
        <p:nvPicPr>
          <p:cNvPr id="175" name="4" descr=""/>
          <p:cNvPicPr/>
          <p:nvPr/>
        </p:nvPicPr>
        <p:blipFill>
          <a:blip r:embed="rId2"/>
          <a:stretch/>
        </p:blipFill>
        <p:spPr>
          <a:xfrm>
            <a:off x="5257800" y="2590920"/>
            <a:ext cx="3352680" cy="33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6320" y="609480"/>
            <a:ext cx="9067680" cy="50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этих задач позволит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илить практическую направленность изучения школьного курса геометри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аботать необходимые навыки решения практических задач, умения оценивать величины и находить их приближенные значения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ь геометрические представления о соотношениях размеров реальных объектов и связанных с ними геометрических величин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аботать навыки работы с таблицами и другими справочными материалам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сить интерес, мотивацию и, как следствие, эффективность изучения геометри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чше подготовиться к ГИА и ЕГЭ по математик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" y="60948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азите паркет, составленный из треугольников, равных данному. Раскрасьте треугольники в два цвета так, чтобы соседние треугольники были окрашены разными цветам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666880" y="1905120"/>
            <a:ext cx="3673440" cy="4779720"/>
          </a:xfrm>
          <a:prstGeom prst="rect">
            <a:avLst/>
          </a:prstGeom>
          <a:ln w="0">
            <a:noFill/>
          </a:ln>
        </p:spPr>
      </p:pic>
      <p:grpSp>
        <p:nvGrpSpPr>
          <p:cNvPr id="179" name=""/>
          <p:cNvGrpSpPr/>
          <p:nvPr/>
        </p:nvGrpSpPr>
        <p:grpSpPr>
          <a:xfrm>
            <a:off x="304920" y="1905120"/>
            <a:ext cx="6054480" cy="4773600"/>
            <a:chOff x="304920" y="1905120"/>
            <a:chExt cx="6054480" cy="4773600"/>
          </a:xfrm>
        </p:grpSpPr>
        <p:sp>
          <p:nvSpPr>
            <p:cNvPr id="180" name=""/>
            <p:cNvSpPr/>
            <p:nvPr/>
          </p:nvSpPr>
          <p:spPr>
            <a:xfrm>
              <a:off x="304920" y="571500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3300"/>
                  </a:solidFill>
                  <a:latin typeface="Times New Roman"/>
                </a:rPr>
                <a:t>Ответ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1" name="" descr=""/>
            <p:cNvPicPr/>
            <p:nvPr/>
          </p:nvPicPr>
          <p:blipFill>
            <a:blip r:embed="rId2"/>
            <a:stretch/>
          </p:blipFill>
          <p:spPr>
            <a:xfrm>
              <a:off x="2679840" y="1905120"/>
              <a:ext cx="3679560" cy="4773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" y="60948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азите паркет, составленный из треугольников, равных данному. Раскрасьте треугольники в два цвета так, чтобы соседние треугольники были окрашены разными цветам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514600" y="1905120"/>
            <a:ext cx="3683160" cy="4800600"/>
          </a:xfrm>
          <a:prstGeom prst="rect">
            <a:avLst/>
          </a:prstGeom>
          <a:ln w="0">
            <a:noFill/>
          </a:ln>
        </p:spPr>
      </p:pic>
      <p:grpSp>
        <p:nvGrpSpPr>
          <p:cNvPr id="185" name=""/>
          <p:cNvGrpSpPr/>
          <p:nvPr/>
        </p:nvGrpSpPr>
        <p:grpSpPr>
          <a:xfrm>
            <a:off x="304920" y="1905120"/>
            <a:ext cx="5913360" cy="4800600"/>
            <a:chOff x="304920" y="1905120"/>
            <a:chExt cx="5913360" cy="4800600"/>
          </a:xfrm>
        </p:grpSpPr>
        <p:sp>
          <p:nvSpPr>
            <p:cNvPr id="186" name=""/>
            <p:cNvSpPr/>
            <p:nvPr/>
          </p:nvSpPr>
          <p:spPr>
            <a:xfrm>
              <a:off x="304920" y="571500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3300"/>
                  </a:solidFill>
                  <a:latin typeface="Times New Roman"/>
                </a:rPr>
                <a:t>Ответ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7" name="" descr=""/>
            <p:cNvPicPr/>
            <p:nvPr/>
          </p:nvPicPr>
          <p:blipFill>
            <a:blip r:embed="rId2"/>
            <a:stretch/>
          </p:blipFill>
          <p:spPr>
            <a:xfrm>
              <a:off x="2514600" y="1905120"/>
              <a:ext cx="3703680" cy="4800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Упражнение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" y="60948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азите паркет, составленный из четырехугольников, равных данному. Раскрасьте четырехугольники в два цвета так, чтобы соседние четырехугольники были окрашены разными цветам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514600" y="1773360"/>
            <a:ext cx="3908520" cy="5084640"/>
          </a:xfrm>
          <a:prstGeom prst="rect">
            <a:avLst/>
          </a:prstGeom>
          <a:ln w="0">
            <a:noFill/>
          </a:ln>
        </p:spPr>
      </p:pic>
      <p:grpSp>
        <p:nvGrpSpPr>
          <p:cNvPr id="191" name=""/>
          <p:cNvGrpSpPr/>
          <p:nvPr/>
        </p:nvGrpSpPr>
        <p:grpSpPr>
          <a:xfrm>
            <a:off x="304920" y="1752480"/>
            <a:ext cx="6126120" cy="5105520"/>
            <a:chOff x="304920" y="1752480"/>
            <a:chExt cx="6126120" cy="5105520"/>
          </a:xfrm>
        </p:grpSpPr>
        <p:sp>
          <p:nvSpPr>
            <p:cNvPr id="192" name=""/>
            <p:cNvSpPr/>
            <p:nvPr/>
          </p:nvSpPr>
          <p:spPr>
            <a:xfrm>
              <a:off x="304920" y="571500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3300"/>
                  </a:solidFill>
                  <a:latin typeface="Times New Roman"/>
                </a:rPr>
                <a:t>Ответ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3" name="" descr=""/>
            <p:cNvPicPr/>
            <p:nvPr/>
          </p:nvPicPr>
          <p:blipFill>
            <a:blip r:embed="rId2"/>
            <a:stretch/>
          </p:blipFill>
          <p:spPr>
            <a:xfrm>
              <a:off x="2514600" y="1752480"/>
              <a:ext cx="3916440" cy="5105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Упражнение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28600" y="60948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азите паркет, составленный из четырехугольников, равных данному. Раскрасьте четырехугольники в два цвета так, чтобы соседние четырехугольники были окрашены разными цветам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666880" y="1773360"/>
            <a:ext cx="3899160" cy="5084640"/>
          </a:xfrm>
          <a:prstGeom prst="rect">
            <a:avLst/>
          </a:prstGeom>
          <a:ln w="0">
            <a:noFill/>
          </a:ln>
        </p:spPr>
      </p:pic>
      <p:grpSp>
        <p:nvGrpSpPr>
          <p:cNvPr id="197" name=""/>
          <p:cNvGrpSpPr/>
          <p:nvPr/>
        </p:nvGrpSpPr>
        <p:grpSpPr>
          <a:xfrm>
            <a:off x="304920" y="1752480"/>
            <a:ext cx="6256080" cy="5105520"/>
            <a:chOff x="304920" y="1752480"/>
            <a:chExt cx="6256080" cy="5105520"/>
          </a:xfrm>
        </p:grpSpPr>
        <p:sp>
          <p:nvSpPr>
            <p:cNvPr id="198" name=""/>
            <p:cNvSpPr/>
            <p:nvPr/>
          </p:nvSpPr>
          <p:spPr>
            <a:xfrm>
              <a:off x="304920" y="571500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3300"/>
                  </a:solidFill>
                  <a:latin typeface="Times New Roman"/>
                </a:rPr>
                <a:t>Ответ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9" name="" descr=""/>
            <p:cNvPicPr/>
            <p:nvPr/>
          </p:nvPicPr>
          <p:blipFill>
            <a:blip r:embed="rId2"/>
            <a:stretch/>
          </p:blipFill>
          <p:spPr>
            <a:xfrm>
              <a:off x="2666880" y="1752480"/>
              <a:ext cx="3894120" cy="5105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Упражнение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" y="60948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азите паркет, составленный из шестиугольников, равных данному. Раскрасьте шестиугольники в три цвета так, чтобы соседние шестиугольники были окрашены разными цветам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590920" y="1828800"/>
            <a:ext cx="3855960" cy="5029200"/>
          </a:xfrm>
          <a:prstGeom prst="rect">
            <a:avLst/>
          </a:prstGeom>
          <a:ln w="0">
            <a:noFill/>
          </a:ln>
        </p:spPr>
      </p:pic>
      <p:grpSp>
        <p:nvGrpSpPr>
          <p:cNvPr id="203" name=""/>
          <p:cNvGrpSpPr/>
          <p:nvPr/>
        </p:nvGrpSpPr>
        <p:grpSpPr>
          <a:xfrm>
            <a:off x="304920" y="1828800"/>
            <a:ext cx="6161040" cy="5029200"/>
            <a:chOff x="304920" y="1828800"/>
            <a:chExt cx="6161040" cy="5029200"/>
          </a:xfrm>
        </p:grpSpPr>
        <p:sp>
          <p:nvSpPr>
            <p:cNvPr id="204" name=""/>
            <p:cNvSpPr/>
            <p:nvPr/>
          </p:nvSpPr>
          <p:spPr>
            <a:xfrm>
              <a:off x="304920" y="571500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3300"/>
                  </a:solidFill>
                  <a:latin typeface="Times New Roman"/>
                </a:rPr>
                <a:t>Ответ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5" name="" descr=""/>
            <p:cNvPicPr/>
            <p:nvPr/>
          </p:nvPicPr>
          <p:blipFill>
            <a:blip r:embed="rId2"/>
            <a:stretch/>
          </p:blipFill>
          <p:spPr>
            <a:xfrm>
              <a:off x="2590920" y="1828800"/>
              <a:ext cx="3875040" cy="5029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Упражнение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4572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ите составление паркета из квадратов и треугольников, равных данным, так, чтобы в каждой вершине сходилось два квадрата и три треугольника. Раскрасьте квадраты одним цветом, а треугольники – други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819520" y="2057400"/>
            <a:ext cx="3557520" cy="4629240"/>
          </a:xfrm>
          <a:prstGeom prst="rect">
            <a:avLst/>
          </a:prstGeom>
          <a:ln w="0">
            <a:noFill/>
          </a:ln>
        </p:spPr>
      </p:pic>
      <p:grpSp>
        <p:nvGrpSpPr>
          <p:cNvPr id="209" name=""/>
          <p:cNvGrpSpPr/>
          <p:nvPr/>
        </p:nvGrpSpPr>
        <p:grpSpPr>
          <a:xfrm>
            <a:off x="304920" y="2057400"/>
            <a:ext cx="6080040" cy="4648320"/>
            <a:chOff x="304920" y="2057400"/>
            <a:chExt cx="6080040" cy="4648320"/>
          </a:xfrm>
        </p:grpSpPr>
        <p:sp>
          <p:nvSpPr>
            <p:cNvPr id="210" name=""/>
            <p:cNvSpPr/>
            <p:nvPr/>
          </p:nvSpPr>
          <p:spPr>
            <a:xfrm>
              <a:off x="304920" y="571500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3300"/>
                  </a:solidFill>
                  <a:latin typeface="Times New Roman"/>
                </a:rPr>
                <a:t>Ответ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1" name="" descr=""/>
            <p:cNvPicPr/>
            <p:nvPr/>
          </p:nvPicPr>
          <p:blipFill>
            <a:blip r:embed="rId2"/>
            <a:stretch/>
          </p:blipFill>
          <p:spPr>
            <a:xfrm>
              <a:off x="2819520" y="2057400"/>
              <a:ext cx="3565440" cy="4648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Упражнение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4572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ите составление паркета из шестиугольников и треугольников, равных данным, так, чтобы в каждой вершине сходилось два шестиугольника и два треугольника. Раскрасьте шестиугольники одним цветом, а треугольники – други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2666880" y="2133720"/>
            <a:ext cx="3548160" cy="4627440"/>
          </a:xfrm>
          <a:prstGeom prst="rect">
            <a:avLst/>
          </a:prstGeom>
          <a:ln w="0">
            <a:noFill/>
          </a:ln>
        </p:spPr>
      </p:pic>
      <p:grpSp>
        <p:nvGrpSpPr>
          <p:cNvPr id="215" name=""/>
          <p:cNvGrpSpPr/>
          <p:nvPr/>
        </p:nvGrpSpPr>
        <p:grpSpPr>
          <a:xfrm>
            <a:off x="304920" y="2133720"/>
            <a:ext cx="5924520" cy="4647960"/>
            <a:chOff x="304920" y="2133720"/>
            <a:chExt cx="5924520" cy="4647960"/>
          </a:xfrm>
        </p:grpSpPr>
        <p:sp>
          <p:nvSpPr>
            <p:cNvPr id="216" name=""/>
            <p:cNvSpPr/>
            <p:nvPr/>
          </p:nvSpPr>
          <p:spPr>
            <a:xfrm>
              <a:off x="304920" y="571500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3300"/>
                  </a:solidFill>
                  <a:latin typeface="Times New Roman"/>
                </a:rPr>
                <a:t>Ответ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7" name="" descr=""/>
            <p:cNvPicPr/>
            <p:nvPr/>
          </p:nvPicPr>
          <p:blipFill>
            <a:blip r:embed="rId2"/>
            <a:stretch/>
          </p:blipFill>
          <p:spPr>
            <a:xfrm>
              <a:off x="2666880" y="2133720"/>
              <a:ext cx="3562560" cy="4647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Упражнение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4572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ите составление паркета из шестиугольников, квадратов и треугольников, равных данным, так, чтобы в каждой вершине сходились шестиугольник, два квадрата и треугольник. Раскрасьте шестиугольники и треугольники одним цветом, а квадраты – други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2666880" y="2057400"/>
            <a:ext cx="3562560" cy="4648320"/>
          </a:xfrm>
          <a:prstGeom prst="rect">
            <a:avLst/>
          </a:prstGeom>
          <a:ln w="0">
            <a:noFill/>
          </a:ln>
        </p:spPr>
      </p:pic>
      <p:grpSp>
        <p:nvGrpSpPr>
          <p:cNvPr id="221" name=""/>
          <p:cNvGrpSpPr/>
          <p:nvPr/>
        </p:nvGrpSpPr>
        <p:grpSpPr>
          <a:xfrm>
            <a:off x="304920" y="2057400"/>
            <a:ext cx="5918040" cy="4648320"/>
            <a:chOff x="304920" y="2057400"/>
            <a:chExt cx="5918040" cy="4648320"/>
          </a:xfrm>
        </p:grpSpPr>
        <p:sp>
          <p:nvSpPr>
            <p:cNvPr id="222" name=""/>
            <p:cNvSpPr/>
            <p:nvPr/>
          </p:nvSpPr>
          <p:spPr>
            <a:xfrm>
              <a:off x="304920" y="571500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3300"/>
                  </a:solidFill>
                  <a:latin typeface="Times New Roman"/>
                </a:rPr>
                <a:t>Ответ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3" name="" descr=""/>
            <p:cNvPicPr/>
            <p:nvPr/>
          </p:nvPicPr>
          <p:blipFill>
            <a:blip r:embed="rId2"/>
            <a:stretch/>
          </p:blipFill>
          <p:spPr>
            <a:xfrm>
              <a:off x="2666880" y="2057400"/>
              <a:ext cx="3556080" cy="4648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Упражнение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4572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ите составление паркета из восьмиугольников и квадратов, равных данным, так, чтобы в каждой вершине сходилось два восьмиугольника и один квадрат. Раскрасьте восьмиугольники одним цветом, а квадраты – други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2666880" y="2001960"/>
            <a:ext cx="3724560" cy="4856040"/>
          </a:xfrm>
          <a:prstGeom prst="rect">
            <a:avLst/>
          </a:prstGeom>
          <a:ln w="0">
            <a:noFill/>
          </a:ln>
        </p:spPr>
      </p:pic>
      <p:grpSp>
        <p:nvGrpSpPr>
          <p:cNvPr id="227" name=""/>
          <p:cNvGrpSpPr/>
          <p:nvPr/>
        </p:nvGrpSpPr>
        <p:grpSpPr>
          <a:xfrm>
            <a:off x="304920" y="1981080"/>
            <a:ext cx="6087960" cy="4876920"/>
            <a:chOff x="304920" y="1981080"/>
            <a:chExt cx="6087960" cy="4876920"/>
          </a:xfrm>
        </p:grpSpPr>
        <p:sp>
          <p:nvSpPr>
            <p:cNvPr id="228" name=""/>
            <p:cNvSpPr/>
            <p:nvPr/>
          </p:nvSpPr>
          <p:spPr>
            <a:xfrm>
              <a:off x="304920" y="571500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3300"/>
                  </a:solidFill>
                  <a:latin typeface="Times New Roman"/>
                </a:rPr>
                <a:t>Ответ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9" name="" descr=""/>
            <p:cNvPicPr/>
            <p:nvPr/>
          </p:nvPicPr>
          <p:blipFill>
            <a:blip r:embed="rId2"/>
            <a:stretch/>
          </p:blipFill>
          <p:spPr>
            <a:xfrm>
              <a:off x="2666880" y="1981080"/>
              <a:ext cx="3726000" cy="4876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Упражнение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4572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ите составление паркета из двенадцатиугольников и треугольников, равных данным, так, чтобы в каждой вершине сходилось два двенадцатиугольника и один треугольник. Раскрасьте двенадцатиугольники одним цветом, а треугольники – други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590920" y="2071800"/>
            <a:ext cx="3659040" cy="4786200"/>
          </a:xfrm>
          <a:prstGeom prst="rect">
            <a:avLst/>
          </a:prstGeom>
          <a:ln w="0">
            <a:noFill/>
          </a:ln>
        </p:spPr>
      </p:pic>
      <p:grpSp>
        <p:nvGrpSpPr>
          <p:cNvPr id="233" name=""/>
          <p:cNvGrpSpPr/>
          <p:nvPr/>
        </p:nvGrpSpPr>
        <p:grpSpPr>
          <a:xfrm>
            <a:off x="304920" y="2057400"/>
            <a:ext cx="5975280" cy="4800600"/>
            <a:chOff x="304920" y="2057400"/>
            <a:chExt cx="5975280" cy="4800600"/>
          </a:xfrm>
        </p:grpSpPr>
        <p:sp>
          <p:nvSpPr>
            <p:cNvPr id="234" name=""/>
            <p:cNvSpPr/>
            <p:nvPr/>
          </p:nvSpPr>
          <p:spPr>
            <a:xfrm>
              <a:off x="304920" y="571500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3300"/>
                  </a:solidFill>
                  <a:latin typeface="Times New Roman"/>
                </a:rPr>
                <a:t>Ответ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5" name="" descr=""/>
            <p:cNvPicPr/>
            <p:nvPr/>
          </p:nvPicPr>
          <p:blipFill>
            <a:blip r:embed="rId2"/>
            <a:stretch/>
          </p:blipFill>
          <p:spPr>
            <a:xfrm>
              <a:off x="2590920" y="2057400"/>
              <a:ext cx="3689280" cy="4800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одерж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320" y="1066680"/>
            <a:ext cx="9067680" cy="55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Угл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Расстояни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Теорема Пифагор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одоби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. Симметри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Тригонометри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. Траектори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. Граф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. Кристаллы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 – природные многогранник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. Карт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1. Паркет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2. Разрезани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 Площадь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 Объё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5. Экстремальные задач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Упражнение 1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4572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ите составление паркета из двенадцатиугольников, шестиугольников и квадратов, равных данным, так, чтобы в каждой вершине сходилось двенадцатиугольник, шестиугольник и квадрат. Раскрасьте двенадцатиугольники одним цветом, шестиугольники – другим, а квадраты – третьи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2819520" y="2324160"/>
            <a:ext cx="3467160" cy="4533840"/>
          </a:xfrm>
          <a:prstGeom prst="rect">
            <a:avLst/>
          </a:prstGeom>
          <a:ln w="0">
            <a:noFill/>
          </a:ln>
        </p:spPr>
      </p:pic>
      <p:grpSp>
        <p:nvGrpSpPr>
          <p:cNvPr id="239" name=""/>
          <p:cNvGrpSpPr/>
          <p:nvPr/>
        </p:nvGrpSpPr>
        <p:grpSpPr>
          <a:xfrm>
            <a:off x="304920" y="2286000"/>
            <a:ext cx="6014880" cy="4572000"/>
            <a:chOff x="304920" y="2286000"/>
            <a:chExt cx="6014880" cy="4572000"/>
          </a:xfrm>
        </p:grpSpPr>
        <p:sp>
          <p:nvSpPr>
            <p:cNvPr id="240" name=""/>
            <p:cNvSpPr/>
            <p:nvPr/>
          </p:nvSpPr>
          <p:spPr>
            <a:xfrm>
              <a:off x="304920" y="571500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3300"/>
                  </a:solidFill>
                  <a:latin typeface="Times New Roman"/>
                </a:rPr>
                <a:t>Ответ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1" name="" descr=""/>
            <p:cNvPicPr/>
            <p:nvPr/>
          </p:nvPicPr>
          <p:blipFill>
            <a:blip r:embed="rId2"/>
            <a:stretch/>
          </p:blipFill>
          <p:spPr>
            <a:xfrm>
              <a:off x="2819520" y="2286000"/>
              <a:ext cx="3500280" cy="4572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Упражнение 1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4572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полните плоскост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ногоугольни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м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равн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анному. Раскрасьт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ногоугольник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два цвета так, чтобы соседние многоугольники были окрашены в разные цве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2590920" y="1620720"/>
            <a:ext cx="4016160" cy="5237280"/>
          </a:xfrm>
          <a:prstGeom prst="rect">
            <a:avLst/>
          </a:prstGeom>
          <a:ln w="0">
            <a:noFill/>
          </a:ln>
        </p:spPr>
      </p:pic>
      <p:grpSp>
        <p:nvGrpSpPr>
          <p:cNvPr id="245" name=""/>
          <p:cNvGrpSpPr/>
          <p:nvPr/>
        </p:nvGrpSpPr>
        <p:grpSpPr>
          <a:xfrm>
            <a:off x="304920" y="1600200"/>
            <a:ext cx="6323040" cy="5257800"/>
            <a:chOff x="304920" y="1600200"/>
            <a:chExt cx="6323040" cy="5257800"/>
          </a:xfrm>
        </p:grpSpPr>
        <p:sp>
          <p:nvSpPr>
            <p:cNvPr id="246" name=""/>
            <p:cNvSpPr/>
            <p:nvPr/>
          </p:nvSpPr>
          <p:spPr>
            <a:xfrm>
              <a:off x="304920" y="571500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3300"/>
                  </a:solidFill>
                  <a:latin typeface="Times New Roman"/>
                </a:rPr>
                <a:t>Ответ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7" name="" descr=""/>
            <p:cNvPicPr/>
            <p:nvPr/>
          </p:nvPicPr>
          <p:blipFill>
            <a:blip r:embed="rId2"/>
            <a:stretch/>
          </p:blipFill>
          <p:spPr>
            <a:xfrm>
              <a:off x="2590920" y="1600200"/>
              <a:ext cx="4037040" cy="5257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Упражнение 1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4572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полните плоскост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ногоугольни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м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равн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анному. Раскрасьт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ногоугольник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два цвета так, чтобы соседние многоугольники были окрашены в разные цве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2590920" y="1676520"/>
            <a:ext cx="3970080" cy="5181480"/>
          </a:xfrm>
          <a:prstGeom prst="rect">
            <a:avLst/>
          </a:prstGeom>
          <a:ln w="0">
            <a:noFill/>
          </a:ln>
        </p:spPr>
      </p:pic>
      <p:grpSp>
        <p:nvGrpSpPr>
          <p:cNvPr id="251" name=""/>
          <p:cNvGrpSpPr/>
          <p:nvPr/>
        </p:nvGrpSpPr>
        <p:grpSpPr>
          <a:xfrm>
            <a:off x="304920" y="1677960"/>
            <a:ext cx="6265800" cy="5180040"/>
            <a:chOff x="304920" y="1677960"/>
            <a:chExt cx="6265800" cy="5180040"/>
          </a:xfrm>
        </p:grpSpPr>
        <p:sp>
          <p:nvSpPr>
            <p:cNvPr id="252" name=""/>
            <p:cNvSpPr/>
            <p:nvPr/>
          </p:nvSpPr>
          <p:spPr>
            <a:xfrm>
              <a:off x="304920" y="571500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3300"/>
                  </a:solidFill>
                  <a:latin typeface="Times New Roman"/>
                </a:rPr>
                <a:t>Ответ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3" name="" descr=""/>
            <p:cNvPicPr/>
            <p:nvPr/>
          </p:nvPicPr>
          <p:blipFill>
            <a:blip r:embed="rId2"/>
            <a:stretch/>
          </p:blipFill>
          <p:spPr>
            <a:xfrm>
              <a:off x="2590920" y="1677960"/>
              <a:ext cx="3979800" cy="5180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Экстремальные задач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68580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мля и Марс обращаются вокруг Солнца по круговым (почти) орбитам радиусов 150 и 228 миллионов километро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с разными угловыми скоростям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йдите наибольшее и наименьшее расстояния между Землей и Марсо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3124080" y="2895480"/>
            <a:ext cx="2660760" cy="281628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457200" y="601992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Ответ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78 и 78 миллионов к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Задача Герона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38088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Задача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а прямая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две точки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не принадлежащие этой прямо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ит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акую точку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прямо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я которо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умма расстояний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 + С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именьш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0" y="2133720"/>
            <a:ext cx="9144000" cy="2958840"/>
            <a:chOff x="0" y="2133720"/>
            <a:chExt cx="9144000" cy="2958840"/>
          </a:xfrm>
        </p:grpSpPr>
        <p:sp>
          <p:nvSpPr>
            <p:cNvPr id="261" name=""/>
            <p:cNvSpPr/>
            <p:nvPr/>
          </p:nvSpPr>
          <p:spPr>
            <a:xfrm>
              <a:off x="0" y="4267080"/>
              <a:ext cx="9144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.</a:t>
              </a:r>
              <a:r>
                <a:rPr b="0" lang="ru-RU" sz="24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Рассмотрим случай, когда точк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лежат по разные стороны от прямой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2" name="" descr=""/>
            <p:cNvPicPr/>
            <p:nvPr/>
          </p:nvPicPr>
          <p:blipFill>
            <a:blip r:embed="rId1"/>
            <a:stretch/>
          </p:blipFill>
          <p:spPr>
            <a:xfrm>
              <a:off x="3327480" y="2133720"/>
              <a:ext cx="2489040" cy="2025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3" name=""/>
          <p:cNvGrpSpPr/>
          <p:nvPr/>
        </p:nvGrpSpPr>
        <p:grpSpPr>
          <a:xfrm>
            <a:off x="0" y="2154240"/>
            <a:ext cx="9144000" cy="4797720"/>
            <a:chOff x="0" y="2154240"/>
            <a:chExt cx="9144000" cy="4797720"/>
          </a:xfrm>
        </p:grpSpPr>
        <p:sp>
          <p:nvSpPr>
            <p:cNvPr id="264" name=""/>
            <p:cNvSpPr/>
            <p:nvPr/>
          </p:nvSpPr>
          <p:spPr>
            <a:xfrm>
              <a:off x="0" y="5029200"/>
              <a:ext cx="91440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 этом случае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искомой точкой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является точка пересечения отрезк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 прямой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Действительно, из неравенства треугольника следует, что для любой другой точк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'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прямой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выполняется неравенство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C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'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+ 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'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C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+ 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, значит, сумм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C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+ 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удет  наименьшей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5" name="" descr=""/>
            <p:cNvPicPr/>
            <p:nvPr/>
          </p:nvPicPr>
          <p:blipFill>
            <a:blip r:embed="rId2"/>
            <a:stretch/>
          </p:blipFill>
          <p:spPr>
            <a:xfrm>
              <a:off x="3352680" y="2154240"/>
              <a:ext cx="2489400" cy="2025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Задача Герона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380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смотрим случай, когд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оч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ежат по одну сторону от прямой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3048120" y="914400"/>
            <a:ext cx="2874960" cy="1592280"/>
          </a:xfrm>
          <a:prstGeom prst="rect">
            <a:avLst/>
          </a:prstGeom>
          <a:ln w="0">
            <a:noFill/>
          </a:ln>
        </p:spPr>
      </p:pic>
      <p:grpSp>
        <p:nvGrpSpPr>
          <p:cNvPr id="269" name=""/>
          <p:cNvGrpSpPr/>
          <p:nvPr/>
        </p:nvGrpSpPr>
        <p:grpSpPr>
          <a:xfrm>
            <a:off x="0" y="914400"/>
            <a:ext cx="9144000" cy="5951160"/>
            <a:chOff x="0" y="914400"/>
            <a:chExt cx="9144000" cy="5951160"/>
          </a:xfrm>
        </p:grpSpPr>
        <p:sp>
          <p:nvSpPr>
            <p:cNvPr id="270" name=""/>
            <p:cNvSpPr/>
            <p:nvPr/>
          </p:nvSpPr>
          <p:spPr>
            <a:xfrm>
              <a:off x="0" y="3479760"/>
              <a:ext cx="914400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В этом случае и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 точки 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опустим на прямую 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перпендикуляр 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Н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и отложим отрезок 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В'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равный 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Н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Пусть 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'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–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роизвольная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очка на прямой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Прямоугольные треугольник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HC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'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'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'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'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вны (по двум катетам), следовательно, имеет место равенство 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'В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'В'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Поэтому сумма 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С' + С'В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будет наименьшей тогда и только тогда, когда наименьшей будет равная ей сумма 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С' + С'В'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Ясно, что последняя сумма является наименьшей в случае, если точки 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В'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С'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лежат на одной прямой, т.е. искомая точка 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является точкой пересечения отрезка 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В'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с прямой 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1" name="" descr=""/>
            <p:cNvPicPr/>
            <p:nvPr/>
          </p:nvPicPr>
          <p:blipFill>
            <a:blip r:embed="rId2"/>
            <a:stretch/>
          </p:blipFill>
          <p:spPr>
            <a:xfrm>
              <a:off x="3048120" y="914400"/>
              <a:ext cx="2874960" cy="2435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Отражение свет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3808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вестно, что свет распространяется по кратчайшему пути. Докажите, что если свет исходит из точ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отражается от зеркал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попадает в точку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то углы 1 и 2 равн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3276720" y="1523880"/>
            <a:ext cx="2874960" cy="1855800"/>
          </a:xfrm>
          <a:prstGeom prst="rect">
            <a:avLst/>
          </a:prstGeom>
          <a:ln w="0">
            <a:noFill/>
          </a:ln>
        </p:spPr>
      </p:pic>
      <p:grpSp>
        <p:nvGrpSpPr>
          <p:cNvPr id="275" name=""/>
          <p:cNvGrpSpPr/>
          <p:nvPr/>
        </p:nvGrpSpPr>
        <p:grpSpPr>
          <a:xfrm>
            <a:off x="0" y="1523880"/>
            <a:ext cx="9144000" cy="4147920"/>
            <a:chOff x="0" y="1523880"/>
            <a:chExt cx="9144000" cy="4147920"/>
          </a:xfrm>
        </p:grpSpPr>
        <p:sp>
          <p:nvSpPr>
            <p:cNvPr id="276" name=""/>
            <p:cNvSpPr/>
            <p:nvPr/>
          </p:nvSpPr>
          <p:spPr>
            <a:xfrm>
              <a:off x="0" y="4114800"/>
              <a:ext cx="9144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.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з решения задачи Герона следует, что угол 1 равен углу 3 (как вертикальные углы), угол 2 равен углу 3 (как соответствующие углы в равных треугольниках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HC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’HC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). Следовательно, угол 1 равен углу 3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7" name="" descr=""/>
            <p:cNvPicPr/>
            <p:nvPr/>
          </p:nvPicPr>
          <p:blipFill>
            <a:blip r:embed="rId2"/>
            <a:stretch/>
          </p:blipFill>
          <p:spPr>
            <a:xfrm>
              <a:off x="3276720" y="1523880"/>
              <a:ext cx="2874960" cy="2435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Остановка автобус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38088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селенные пункт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расположены по одну сторону от шосс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Требуется построить автобусную остановку и проложить от нее дорожки до населенных пунктов. Укажите расположение остановки, при котором суммарная длина дорожек наименьша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3048120" y="1905120"/>
            <a:ext cx="3078000" cy="1697040"/>
          </a:xfrm>
          <a:prstGeom prst="rect">
            <a:avLst/>
          </a:prstGeom>
          <a:ln w="0">
            <a:noFill/>
          </a:ln>
        </p:spPr>
      </p:pic>
      <p:grpSp>
        <p:nvGrpSpPr>
          <p:cNvPr id="281" name=""/>
          <p:cNvGrpSpPr/>
          <p:nvPr/>
        </p:nvGrpSpPr>
        <p:grpSpPr>
          <a:xfrm>
            <a:off x="0" y="1905120"/>
            <a:ext cx="9144000" cy="3583800"/>
            <a:chOff x="0" y="1905120"/>
            <a:chExt cx="9144000" cy="3583800"/>
          </a:xfrm>
        </p:grpSpPr>
        <p:sp>
          <p:nvSpPr>
            <p:cNvPr id="282" name=""/>
            <p:cNvSpPr/>
            <p:nvPr/>
          </p:nvSpPr>
          <p:spPr>
            <a:xfrm>
              <a:off x="0" y="5029200"/>
              <a:ext cx="91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.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Решение следует из задачи Герона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3" name="" descr=""/>
            <p:cNvPicPr/>
            <p:nvPr/>
          </p:nvPicPr>
          <p:blipFill>
            <a:blip r:embed="rId2"/>
            <a:stretch/>
          </p:blipFill>
          <p:spPr>
            <a:xfrm>
              <a:off x="3032280" y="1905120"/>
              <a:ext cx="3078000" cy="2604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imes New Roman"/>
              </a:rPr>
              <a:t>Упражнение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6094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прямой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кажите точку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для которой сумма расстояний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C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B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именьшая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3535200" y="2408400"/>
            <a:ext cx="2073600" cy="2046240"/>
          </a:xfrm>
          <a:prstGeom prst="rect">
            <a:avLst/>
          </a:prstGeom>
          <a:ln w="0">
            <a:noFill/>
          </a:ln>
        </p:spPr>
      </p:pic>
      <p:grpSp>
        <p:nvGrpSpPr>
          <p:cNvPr id="287" name=""/>
          <p:cNvGrpSpPr/>
          <p:nvPr/>
        </p:nvGrpSpPr>
        <p:grpSpPr>
          <a:xfrm>
            <a:off x="838080" y="2438280"/>
            <a:ext cx="4740480" cy="2882880"/>
            <a:chOff x="838080" y="2438280"/>
            <a:chExt cx="4740480" cy="2882880"/>
          </a:xfrm>
        </p:grpSpPr>
        <p:sp>
          <p:nvSpPr>
            <p:cNvPr id="288" name=""/>
            <p:cNvSpPr/>
            <p:nvPr/>
          </p:nvSpPr>
          <p:spPr>
            <a:xfrm>
              <a:off x="838080" y="4800600"/>
              <a:ext cx="17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Ответ: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9" name="" descr=""/>
            <p:cNvPicPr/>
            <p:nvPr/>
          </p:nvPicPr>
          <p:blipFill>
            <a:blip r:embed="rId2"/>
            <a:stretch/>
          </p:blipFill>
          <p:spPr>
            <a:xfrm>
              <a:off x="3505320" y="2438280"/>
              <a:ext cx="2073240" cy="2046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6094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прямой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кажите точку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для которой сумма расстояний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C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B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именьшая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3535200" y="2408400"/>
            <a:ext cx="2073600" cy="2046240"/>
          </a:xfrm>
          <a:prstGeom prst="rect">
            <a:avLst/>
          </a:prstGeom>
          <a:ln w="0">
            <a:noFill/>
          </a:ln>
        </p:spPr>
      </p:pic>
      <p:grpSp>
        <p:nvGrpSpPr>
          <p:cNvPr id="293" name=""/>
          <p:cNvGrpSpPr/>
          <p:nvPr/>
        </p:nvGrpSpPr>
        <p:grpSpPr>
          <a:xfrm>
            <a:off x="838080" y="2438280"/>
            <a:ext cx="4740480" cy="2882880"/>
            <a:chOff x="838080" y="2438280"/>
            <a:chExt cx="4740480" cy="2882880"/>
          </a:xfrm>
        </p:grpSpPr>
        <p:sp>
          <p:nvSpPr>
            <p:cNvPr id="294" name=""/>
            <p:cNvSpPr/>
            <p:nvPr/>
          </p:nvSpPr>
          <p:spPr>
            <a:xfrm>
              <a:off x="838080" y="4800600"/>
              <a:ext cx="17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Ответ: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5" name="" descr=""/>
            <p:cNvPicPr/>
            <p:nvPr/>
          </p:nvPicPr>
          <p:blipFill>
            <a:blip r:embed="rId2"/>
            <a:stretch/>
          </p:blipFill>
          <p:spPr>
            <a:xfrm>
              <a:off x="3505320" y="2438280"/>
              <a:ext cx="2073240" cy="2046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Циклоид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280" y="380880"/>
            <a:ext cx="899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вая, которую описывает точка, закрепленная на окружности, катящейся по прямой, называется</a:t>
            </a:r>
            <a:r>
              <a:rPr b="0" lang="ru-RU" sz="2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циклоидой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2280" y="990720"/>
            <a:ext cx="899172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Для изображения циклоиды о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ложим на прямой отрезок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равный длине окружности, т.е.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азделим этот отрезок на 8 равных частей точками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..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</a:t>
            </a:r>
            <a:r>
              <a:rPr b="0" lang="ru-RU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В.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Выясните, где будет находится отмеченная точка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, когда окружность, катящаяся по прямой, достигнет точки: а)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б)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; в)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г)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д)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е)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ж)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з)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? (Для указания положения точки используйте направления: восток, запад, север, юг и т.д.). Соедините полученные точки плавной кривой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43000" y="3429000"/>
            <a:ext cx="6659640" cy="24145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143000" y="3429000"/>
            <a:ext cx="7418520" cy="2414520"/>
          </a:xfrm>
          <a:prstGeom prst="rect">
            <a:avLst/>
          </a:prstGeom>
          <a:ln w="0">
            <a:noFill/>
          </a:ln>
        </p:spPr>
      </p:pic>
      <p:grpSp>
        <p:nvGrpSpPr>
          <p:cNvPr id="60" name=""/>
          <p:cNvGrpSpPr/>
          <p:nvPr/>
        </p:nvGrpSpPr>
        <p:grpSpPr>
          <a:xfrm>
            <a:off x="0" y="3429000"/>
            <a:ext cx="8561520" cy="2898000"/>
            <a:chOff x="0" y="3429000"/>
            <a:chExt cx="8561520" cy="2898000"/>
          </a:xfrm>
        </p:grpSpPr>
        <p:sp>
          <p:nvSpPr>
            <p:cNvPr id="61" name=""/>
            <p:cNvSpPr/>
            <p:nvPr/>
          </p:nvSpPr>
          <p:spPr>
            <a:xfrm>
              <a:off x="0" y="586728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а) юг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2" name="" descr=""/>
            <p:cNvPicPr/>
            <p:nvPr/>
          </p:nvPicPr>
          <p:blipFill>
            <a:blip r:embed="rId3"/>
            <a:stretch/>
          </p:blipFill>
          <p:spPr>
            <a:xfrm>
              <a:off x="1143000" y="3429000"/>
              <a:ext cx="7418520" cy="2414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" name=""/>
          <p:cNvGrpSpPr/>
          <p:nvPr/>
        </p:nvGrpSpPr>
        <p:grpSpPr>
          <a:xfrm>
            <a:off x="1143000" y="3429000"/>
            <a:ext cx="7418520" cy="2822040"/>
            <a:chOff x="1143000" y="3429000"/>
            <a:chExt cx="7418520" cy="2822040"/>
          </a:xfrm>
        </p:grpSpPr>
        <p:sp>
          <p:nvSpPr>
            <p:cNvPr id="64" name=""/>
            <p:cNvSpPr/>
            <p:nvPr/>
          </p:nvSpPr>
          <p:spPr>
            <a:xfrm>
              <a:off x="1905120" y="579132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б) север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5" name="" descr=""/>
            <p:cNvPicPr/>
            <p:nvPr/>
          </p:nvPicPr>
          <p:blipFill>
            <a:blip r:embed="rId4"/>
            <a:stretch/>
          </p:blipFill>
          <p:spPr>
            <a:xfrm>
              <a:off x="1143000" y="3429000"/>
              <a:ext cx="7418520" cy="2414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" name=""/>
          <p:cNvGrpSpPr/>
          <p:nvPr/>
        </p:nvGrpSpPr>
        <p:grpSpPr>
          <a:xfrm>
            <a:off x="1143000" y="3429000"/>
            <a:ext cx="7418520" cy="2822040"/>
            <a:chOff x="1143000" y="3429000"/>
            <a:chExt cx="7418520" cy="2822040"/>
          </a:xfrm>
        </p:grpSpPr>
        <p:sp>
          <p:nvSpPr>
            <p:cNvPr id="67" name=""/>
            <p:cNvSpPr/>
            <p:nvPr/>
          </p:nvSpPr>
          <p:spPr>
            <a:xfrm>
              <a:off x="3124440" y="579132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в) запад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8" name="" descr=""/>
            <p:cNvPicPr/>
            <p:nvPr/>
          </p:nvPicPr>
          <p:blipFill>
            <a:blip r:embed="rId5"/>
            <a:stretch/>
          </p:blipFill>
          <p:spPr>
            <a:xfrm>
              <a:off x="1143000" y="3429000"/>
              <a:ext cx="7418520" cy="2414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"/>
          <p:cNvGrpSpPr/>
          <p:nvPr/>
        </p:nvGrpSpPr>
        <p:grpSpPr>
          <a:xfrm>
            <a:off x="1143000" y="3429000"/>
            <a:ext cx="7418520" cy="2822040"/>
            <a:chOff x="1143000" y="3429000"/>
            <a:chExt cx="7418520" cy="2822040"/>
          </a:xfrm>
        </p:grpSpPr>
        <p:sp>
          <p:nvSpPr>
            <p:cNvPr id="70" name=""/>
            <p:cNvSpPr/>
            <p:nvPr/>
          </p:nvSpPr>
          <p:spPr>
            <a:xfrm>
              <a:off x="4343400" y="579132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г) восток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1" name="" descr=""/>
            <p:cNvPicPr/>
            <p:nvPr/>
          </p:nvPicPr>
          <p:blipFill>
            <a:blip r:embed="rId6"/>
            <a:stretch/>
          </p:blipFill>
          <p:spPr>
            <a:xfrm>
              <a:off x="1143000" y="3429000"/>
              <a:ext cx="7418520" cy="2414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" name=""/>
          <p:cNvGrpSpPr/>
          <p:nvPr/>
        </p:nvGrpSpPr>
        <p:grpSpPr>
          <a:xfrm>
            <a:off x="1143000" y="3429000"/>
            <a:ext cx="7418520" cy="2822040"/>
            <a:chOff x="1143000" y="3429000"/>
            <a:chExt cx="7418520" cy="2822040"/>
          </a:xfrm>
        </p:grpSpPr>
        <p:sp>
          <p:nvSpPr>
            <p:cNvPr id="73" name=""/>
            <p:cNvSpPr/>
            <p:nvPr/>
          </p:nvSpPr>
          <p:spPr>
            <a:xfrm>
              <a:off x="5791320" y="579132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д) юго-запад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4" name="" descr=""/>
            <p:cNvPicPr/>
            <p:nvPr/>
          </p:nvPicPr>
          <p:blipFill>
            <a:blip r:embed="rId7"/>
            <a:stretch/>
          </p:blipFill>
          <p:spPr>
            <a:xfrm>
              <a:off x="1143000" y="3429000"/>
              <a:ext cx="7418520" cy="2414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5" name=""/>
          <p:cNvGrpSpPr/>
          <p:nvPr/>
        </p:nvGrpSpPr>
        <p:grpSpPr>
          <a:xfrm>
            <a:off x="152280" y="3429000"/>
            <a:ext cx="8408880" cy="3279240"/>
            <a:chOff x="152280" y="3429000"/>
            <a:chExt cx="8408880" cy="3279240"/>
          </a:xfrm>
        </p:grpSpPr>
        <p:sp>
          <p:nvSpPr>
            <p:cNvPr id="76" name=""/>
            <p:cNvSpPr/>
            <p:nvPr/>
          </p:nvSpPr>
          <p:spPr>
            <a:xfrm>
              <a:off x="152280" y="624852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е) северо-запад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7" name="" descr=""/>
            <p:cNvPicPr/>
            <p:nvPr/>
          </p:nvPicPr>
          <p:blipFill>
            <a:blip r:embed="rId8"/>
            <a:stretch/>
          </p:blipFill>
          <p:spPr>
            <a:xfrm>
              <a:off x="1142640" y="3429000"/>
              <a:ext cx="7418520" cy="2414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8" name=""/>
          <p:cNvGrpSpPr/>
          <p:nvPr/>
        </p:nvGrpSpPr>
        <p:grpSpPr>
          <a:xfrm>
            <a:off x="1143000" y="3429000"/>
            <a:ext cx="7418520" cy="3279240"/>
            <a:chOff x="1143000" y="3429000"/>
            <a:chExt cx="7418520" cy="3279240"/>
          </a:xfrm>
        </p:grpSpPr>
        <p:sp>
          <p:nvSpPr>
            <p:cNvPr id="79" name=""/>
            <p:cNvSpPr/>
            <p:nvPr/>
          </p:nvSpPr>
          <p:spPr>
            <a:xfrm>
              <a:off x="2362320" y="624852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ж) северо-восток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9"/>
            <a:stretch/>
          </p:blipFill>
          <p:spPr>
            <a:xfrm>
              <a:off x="1143000" y="3429000"/>
              <a:ext cx="7418520" cy="2414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1" name=""/>
          <p:cNvGrpSpPr/>
          <p:nvPr/>
        </p:nvGrpSpPr>
        <p:grpSpPr>
          <a:xfrm>
            <a:off x="1143000" y="3429000"/>
            <a:ext cx="7418520" cy="3279240"/>
            <a:chOff x="1143000" y="3429000"/>
            <a:chExt cx="7418520" cy="3279240"/>
          </a:xfrm>
        </p:grpSpPr>
        <p:sp>
          <p:nvSpPr>
            <p:cNvPr id="82" name=""/>
            <p:cNvSpPr/>
            <p:nvPr/>
          </p:nvSpPr>
          <p:spPr>
            <a:xfrm>
              <a:off x="4800600" y="624852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з) юго-восток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3" name="" descr=""/>
            <p:cNvPicPr/>
            <p:nvPr/>
          </p:nvPicPr>
          <p:blipFill>
            <a:blip r:embed="rId10"/>
            <a:stretch/>
          </p:blipFill>
          <p:spPr>
            <a:xfrm>
              <a:off x="1143000" y="3429000"/>
              <a:ext cx="7418520" cy="2414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4" name="" descr=""/>
          <p:cNvPicPr/>
          <p:nvPr/>
        </p:nvPicPr>
        <p:blipFill>
          <a:blip r:embed="rId11"/>
          <a:stretch/>
        </p:blipFill>
        <p:spPr>
          <a:xfrm>
            <a:off x="1143000" y="3429000"/>
            <a:ext cx="7418520" cy="24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6094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прямой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кажите точку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для которой сумма расстояний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C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B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именьшая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3540240" y="2413080"/>
            <a:ext cx="2062080" cy="2035080"/>
          </a:xfrm>
          <a:prstGeom prst="rect">
            <a:avLst/>
          </a:prstGeom>
          <a:ln w="0">
            <a:noFill/>
          </a:ln>
        </p:spPr>
      </p:pic>
      <p:grpSp>
        <p:nvGrpSpPr>
          <p:cNvPr id="299" name=""/>
          <p:cNvGrpSpPr/>
          <p:nvPr/>
        </p:nvGrpSpPr>
        <p:grpSpPr>
          <a:xfrm>
            <a:off x="838080" y="2438280"/>
            <a:ext cx="4740480" cy="2882880"/>
            <a:chOff x="838080" y="2438280"/>
            <a:chExt cx="4740480" cy="2882880"/>
          </a:xfrm>
        </p:grpSpPr>
        <p:sp>
          <p:nvSpPr>
            <p:cNvPr id="300" name=""/>
            <p:cNvSpPr/>
            <p:nvPr/>
          </p:nvSpPr>
          <p:spPr>
            <a:xfrm>
              <a:off x="838080" y="4800600"/>
              <a:ext cx="17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Ответ: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1" name="" descr=""/>
            <p:cNvPicPr/>
            <p:nvPr/>
          </p:nvPicPr>
          <p:blipFill>
            <a:blip r:embed="rId2"/>
            <a:stretch/>
          </p:blipFill>
          <p:spPr>
            <a:xfrm>
              <a:off x="3505320" y="2438280"/>
              <a:ext cx="2073240" cy="2035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6094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я данной точк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нутри острого угла на его сторонах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найдите точк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ответственно, для которых периметр треугольника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именьши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2276280" cy="1571400"/>
          </a:xfrm>
          <a:prstGeom prst="rect">
            <a:avLst/>
          </a:prstGeom>
          <a:ln w="0">
            <a:noFill/>
          </a:ln>
        </p:spPr>
      </p:pic>
      <p:grpSp>
        <p:nvGrpSpPr>
          <p:cNvPr id="305" name=""/>
          <p:cNvGrpSpPr/>
          <p:nvPr/>
        </p:nvGrpSpPr>
        <p:grpSpPr>
          <a:xfrm>
            <a:off x="0" y="2133720"/>
            <a:ext cx="9144000" cy="4760640"/>
            <a:chOff x="0" y="2133720"/>
            <a:chExt cx="9144000" cy="4760640"/>
          </a:xfrm>
        </p:grpSpPr>
        <p:sp>
          <p:nvSpPr>
            <p:cNvPr id="306" name=""/>
            <p:cNvSpPr/>
            <p:nvPr/>
          </p:nvSpPr>
          <p:spPr>
            <a:xfrm>
              <a:off x="0" y="4038480"/>
              <a:ext cx="9144000" cy="28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усть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‘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’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–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роизвольные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очк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на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торонах угла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е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ю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 место равенств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’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‘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’ = CB’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Поэтому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ериметр треугольника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‘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’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будет наименьш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м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тогда и только тогда, когда наименьш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ей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будет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длина ломаной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’B’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Ясно, что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на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является наименьшей в случае, если точки 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'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В'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С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лежат на одной прямой, т.е. иском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ые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точк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явля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ю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ся точк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ами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пересечения отрезк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с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 сторонами угла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048120" y="2362320"/>
              <a:ext cx="5943600" cy="176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3300"/>
                  </a:solidFill>
                  <a:latin typeface="Times New Roman"/>
                </a:rPr>
                <a:t>Решение.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 точк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опустим на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тороны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перпендикуляр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ы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оответственно, и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тложим отрезк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вны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е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</a:t>
              </a:r>
              <a:r>
                <a:rPr b="0" lang="ru-RU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8" name="" descr=""/>
            <p:cNvPicPr/>
            <p:nvPr/>
          </p:nvPicPr>
          <p:blipFill>
            <a:blip r:embed="rId2"/>
            <a:stretch/>
          </p:blipFill>
          <p:spPr>
            <a:xfrm>
              <a:off x="304920" y="2133720"/>
              <a:ext cx="2276280" cy="1919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6094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я данной точк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нутри острого угла на его сторонах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найдите точк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ответственно, для которых периметр треугольника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именьши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3124080" y="2133720"/>
            <a:ext cx="2927520" cy="2890800"/>
          </a:xfrm>
          <a:prstGeom prst="rect">
            <a:avLst/>
          </a:prstGeom>
          <a:ln w="0">
            <a:noFill/>
          </a:ln>
        </p:spPr>
      </p:pic>
      <p:grpSp>
        <p:nvGrpSpPr>
          <p:cNvPr id="312" name=""/>
          <p:cNvGrpSpPr/>
          <p:nvPr/>
        </p:nvGrpSpPr>
        <p:grpSpPr>
          <a:xfrm>
            <a:off x="685800" y="2133720"/>
            <a:ext cx="5365800" cy="3202920"/>
            <a:chOff x="685800" y="2133720"/>
            <a:chExt cx="5365800" cy="3202920"/>
          </a:xfrm>
        </p:grpSpPr>
        <p:sp>
          <p:nvSpPr>
            <p:cNvPr id="313" name=""/>
            <p:cNvSpPr/>
            <p:nvPr/>
          </p:nvSpPr>
          <p:spPr>
            <a:xfrm>
              <a:off x="685800" y="487692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4" name="" descr=""/>
            <p:cNvPicPr/>
            <p:nvPr/>
          </p:nvPicPr>
          <p:blipFill>
            <a:blip r:embed="rId2"/>
            <a:stretch/>
          </p:blipFill>
          <p:spPr>
            <a:xfrm>
              <a:off x="3124080" y="2133720"/>
              <a:ext cx="2927520" cy="2890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Бильяр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0" y="6094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жите траекторию бильярдного шара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и которой он, отразившись от бортов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падает в шар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3809880" y="2292480"/>
            <a:ext cx="3484800" cy="2278080"/>
          </a:xfrm>
          <a:prstGeom prst="rect">
            <a:avLst/>
          </a:prstGeom>
          <a:ln w="0">
            <a:noFill/>
          </a:ln>
        </p:spPr>
      </p:pic>
      <p:grpSp>
        <p:nvGrpSpPr>
          <p:cNvPr id="318" name=""/>
          <p:cNvGrpSpPr/>
          <p:nvPr/>
        </p:nvGrpSpPr>
        <p:grpSpPr>
          <a:xfrm>
            <a:off x="685800" y="2286000"/>
            <a:ext cx="6603840" cy="3050640"/>
            <a:chOff x="685800" y="2286000"/>
            <a:chExt cx="6603840" cy="3050640"/>
          </a:xfrm>
        </p:grpSpPr>
        <p:sp>
          <p:nvSpPr>
            <p:cNvPr id="319" name=""/>
            <p:cNvSpPr/>
            <p:nvPr/>
          </p:nvSpPr>
          <p:spPr>
            <a:xfrm>
              <a:off x="685800" y="487692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20" name="" descr=""/>
            <p:cNvPicPr/>
            <p:nvPr/>
          </p:nvPicPr>
          <p:blipFill>
            <a:blip r:embed="rId2"/>
            <a:stretch/>
          </p:blipFill>
          <p:spPr>
            <a:xfrm>
              <a:off x="1905120" y="2286000"/>
              <a:ext cx="5384520" cy="2604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Мос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60948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елённые пункты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положены на противоположных берегах реки. В каком месте реки следует построить мост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роложить дороги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чтобы путь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 + CD + DB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л наименьшую длину? (Берега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ки предполагаются параллельными, а мост строится перпендикулярно этим берегам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3505320" y="3429000"/>
            <a:ext cx="2073240" cy="2046240"/>
          </a:xfrm>
          <a:prstGeom prst="rect">
            <a:avLst/>
          </a:prstGeom>
          <a:ln w="0">
            <a:noFill/>
          </a:ln>
        </p:spPr>
      </p:pic>
      <p:grpSp>
        <p:nvGrpSpPr>
          <p:cNvPr id="324" name=""/>
          <p:cNvGrpSpPr/>
          <p:nvPr/>
        </p:nvGrpSpPr>
        <p:grpSpPr>
          <a:xfrm>
            <a:off x="609480" y="3429000"/>
            <a:ext cx="4969080" cy="2136240"/>
            <a:chOff x="609480" y="3429000"/>
            <a:chExt cx="4969080" cy="2136240"/>
          </a:xfrm>
        </p:grpSpPr>
        <p:sp>
          <p:nvSpPr>
            <p:cNvPr id="325" name=""/>
            <p:cNvSpPr/>
            <p:nvPr/>
          </p:nvSpPr>
          <p:spPr>
            <a:xfrm>
              <a:off x="609480" y="510552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26" name="" descr=""/>
            <p:cNvPicPr/>
            <p:nvPr/>
          </p:nvPicPr>
          <p:blipFill>
            <a:blip r:embed="rId2"/>
            <a:stretch/>
          </p:blipFill>
          <p:spPr>
            <a:xfrm>
              <a:off x="3505320" y="3429000"/>
              <a:ext cx="2073240" cy="2046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Расстояния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60948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дном углу кубической коробки с размерами 40х40х40 (см) сидит муха. В противоположном углу сидит паук. Найдите длину кратчайшего пути по поверхности коробки, по которому паук может доползти до мухи. В ответе укажите приближённое значение, равное целому числу сантиметр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447920" y="3505320"/>
            <a:ext cx="2328840" cy="1771560"/>
          </a:xfrm>
          <a:prstGeom prst="rect">
            <a:avLst/>
          </a:prstGeom>
          <a:ln w="0">
            <a:noFill/>
          </a:ln>
        </p:spPr>
      </p:pic>
      <p:grpSp>
        <p:nvGrpSpPr>
          <p:cNvPr id="330" name=""/>
          <p:cNvGrpSpPr/>
          <p:nvPr/>
        </p:nvGrpSpPr>
        <p:grpSpPr>
          <a:xfrm>
            <a:off x="762120" y="3733920"/>
            <a:ext cx="6227640" cy="2135880"/>
            <a:chOff x="762120" y="3733920"/>
            <a:chExt cx="6227640" cy="2135880"/>
          </a:xfrm>
        </p:grpSpPr>
        <p:sp>
          <p:nvSpPr>
            <p:cNvPr id="331" name=""/>
            <p:cNvSpPr/>
            <p:nvPr/>
          </p:nvSpPr>
          <p:spPr>
            <a:xfrm>
              <a:off x="762120" y="541008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Ответ: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89 см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32" name="" descr=""/>
            <p:cNvPicPr/>
            <p:nvPr/>
          </p:nvPicPr>
          <p:blipFill>
            <a:blip r:embed="rId2"/>
            <a:stretch/>
          </p:blipFill>
          <p:spPr>
            <a:xfrm>
              <a:off x="4114800" y="3733920"/>
              <a:ext cx="2874960" cy="1401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Расстояния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380880"/>
            <a:ext cx="914400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длину кратчайшего пути по поверхности правильной шестиугольной призмы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A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рис. 21), соединяющего вершины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се ребра призмы равны 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2373480" cy="2162160"/>
          </a:xfrm>
          <a:prstGeom prst="rect">
            <a:avLst/>
          </a:prstGeom>
          <a:ln w="0">
            <a:noFill/>
          </a:ln>
        </p:spPr>
      </p:pic>
      <p:grpSp>
        <p:nvGrpSpPr>
          <p:cNvPr id="336" name=""/>
          <p:cNvGrpSpPr/>
          <p:nvPr/>
        </p:nvGrpSpPr>
        <p:grpSpPr>
          <a:xfrm>
            <a:off x="0" y="1752480"/>
            <a:ext cx="9144000" cy="2608920"/>
            <a:chOff x="0" y="1752480"/>
            <a:chExt cx="9144000" cy="2608920"/>
          </a:xfrm>
        </p:grpSpPr>
        <p:sp>
          <p:nvSpPr>
            <p:cNvPr id="337" name=""/>
            <p:cNvSpPr/>
            <p:nvPr/>
          </p:nvSpPr>
          <p:spPr>
            <a:xfrm>
              <a:off x="0" y="3657600"/>
              <a:ext cx="9144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Решение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Рассмотрим развертку, состоящую из трех боковых граней призмы, изображенную на рисунке 22.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38" name="" descr=""/>
            <p:cNvPicPr/>
            <p:nvPr/>
          </p:nvPicPr>
          <p:blipFill>
            <a:blip r:embed="rId2"/>
            <a:stretch/>
          </p:blipFill>
          <p:spPr>
            <a:xfrm>
              <a:off x="3124080" y="1752480"/>
              <a:ext cx="3441960" cy="1613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9" name=""/>
          <p:cNvGrpSpPr/>
          <p:nvPr/>
        </p:nvGrpSpPr>
        <p:grpSpPr>
          <a:xfrm>
            <a:off x="0" y="1219320"/>
            <a:ext cx="9144000" cy="4470120"/>
            <a:chOff x="0" y="1219320"/>
            <a:chExt cx="9144000" cy="4470120"/>
          </a:xfrm>
        </p:grpSpPr>
        <p:sp>
          <p:nvSpPr>
            <p:cNvPr id="340" name=""/>
            <p:cNvSpPr/>
            <p:nvPr/>
          </p:nvSpPr>
          <p:spPr>
            <a:xfrm>
              <a:off x="0" y="4267080"/>
              <a:ext cx="9144000" cy="14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лина кратчайшего пути по этим граням призмы равна длине отрезка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</a:t>
              </a:r>
              <a:r>
                <a:rPr b="0" lang="ru-RU" sz="20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 равна 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Однако путь из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 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 </a:t>
              </a:r>
              <a:r>
                <a:rPr b="0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r>
                <a:rPr b="0" lang="ru-RU" sz="20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ожет проходить не только по боковым граням, но и по боковой грани и основанию. Соответствующая развертка изображена на рисунке 23.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41" name=""/>
            <p:cNvGraphicFramePr/>
            <p:nvPr/>
          </p:nvGraphicFramePr>
          <p:xfrm>
            <a:off x="380880" y="4572000"/>
            <a:ext cx="403200" cy="316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4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0880" y="4572000"/>
                      <a:ext cx="403200" cy="31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343" name="" descr=""/>
            <p:cNvPicPr/>
            <p:nvPr/>
          </p:nvPicPr>
          <p:blipFill>
            <a:blip r:embed="rId5"/>
            <a:stretch/>
          </p:blipFill>
          <p:spPr>
            <a:xfrm>
              <a:off x="7010280" y="1219320"/>
              <a:ext cx="1625760" cy="2171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4" name=""/>
          <p:cNvGrpSpPr/>
          <p:nvPr/>
        </p:nvGrpSpPr>
        <p:grpSpPr>
          <a:xfrm>
            <a:off x="0" y="1371600"/>
            <a:ext cx="9144000" cy="5543280"/>
            <a:chOff x="0" y="1371600"/>
            <a:chExt cx="9144000" cy="5543280"/>
          </a:xfrm>
        </p:grpSpPr>
        <p:sp>
          <p:nvSpPr>
            <p:cNvPr id="345" name=""/>
            <p:cNvSpPr/>
            <p:nvPr/>
          </p:nvSpPr>
          <p:spPr>
            <a:xfrm>
              <a:off x="0" y="5546880"/>
              <a:ext cx="9144000" cy="136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 этом случае кратчайшим путем является отрезок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</a:t>
              </a:r>
              <a:r>
                <a:rPr b="0" lang="ru-RU" sz="20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длина которого равна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. Непосредственные вычисления показывают, что  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следовательно, этот путь является кратчайшим. Соответствующий путь на поверхности призмы изображен на рисунке 24.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46" name=""/>
            <p:cNvGraphicFramePr/>
            <p:nvPr/>
          </p:nvGraphicFramePr>
          <p:xfrm>
            <a:off x="228600" y="5867280"/>
            <a:ext cx="838080" cy="3463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347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228600" y="5867280"/>
                      <a:ext cx="838080" cy="346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48" name=""/>
            <p:cNvGraphicFramePr/>
            <p:nvPr/>
          </p:nvGraphicFramePr>
          <p:xfrm>
            <a:off x="6934320" y="5867280"/>
            <a:ext cx="838080" cy="3463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349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6934320" y="5867280"/>
                      <a:ext cx="838080" cy="346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50" name=""/>
            <p:cNvGraphicFramePr/>
            <p:nvPr/>
          </p:nvGraphicFramePr>
          <p:xfrm>
            <a:off x="8153280" y="5867280"/>
            <a:ext cx="403200" cy="31608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351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8153280" y="5867280"/>
                      <a:ext cx="403200" cy="31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352" name="" descr=""/>
            <p:cNvPicPr/>
            <p:nvPr/>
          </p:nvPicPr>
          <p:blipFill>
            <a:blip r:embed="rId12"/>
            <a:stretch/>
          </p:blipFill>
          <p:spPr>
            <a:xfrm>
              <a:off x="457200" y="1371600"/>
              <a:ext cx="2438280" cy="222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Расстояния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380880"/>
            <a:ext cx="91440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внутренней стенке цилиндрической банки в трех сантиметрах от верхнего края висит капля меда, а на наружной стенке, в диаметрально противоположной точке сидит муха (рис. 37). Найдите кратчайший путь, по которому муха может доползти до меда. Радиус основания банки равен 10 с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1854000" cy="2210040"/>
          </a:xfrm>
          <a:prstGeom prst="rect">
            <a:avLst/>
          </a:prstGeom>
          <a:ln w="0">
            <a:noFill/>
          </a:ln>
        </p:spPr>
      </p:pic>
      <p:grpSp>
        <p:nvGrpSpPr>
          <p:cNvPr id="356" name=""/>
          <p:cNvGrpSpPr/>
          <p:nvPr/>
        </p:nvGrpSpPr>
        <p:grpSpPr>
          <a:xfrm>
            <a:off x="0" y="1676520"/>
            <a:ext cx="9144000" cy="2989800"/>
            <a:chOff x="0" y="1676520"/>
            <a:chExt cx="9144000" cy="2989800"/>
          </a:xfrm>
        </p:grpSpPr>
        <p:sp>
          <p:nvSpPr>
            <p:cNvPr id="357" name=""/>
            <p:cNvSpPr/>
            <p:nvPr/>
          </p:nvSpPr>
          <p:spPr>
            <a:xfrm>
              <a:off x="0" y="3962520"/>
              <a:ext cx="9144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Решение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Разверткой боковой поверхности цилиндра является прямоугольник (рис. 38).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58" name="" descr=""/>
            <p:cNvPicPr/>
            <p:nvPr/>
          </p:nvPicPr>
          <p:blipFill>
            <a:blip r:embed="rId2"/>
            <a:stretch/>
          </p:blipFill>
          <p:spPr>
            <a:xfrm>
              <a:off x="4114800" y="1676520"/>
              <a:ext cx="2895480" cy="2216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9" name=""/>
          <p:cNvGrpSpPr/>
          <p:nvPr/>
        </p:nvGrpSpPr>
        <p:grpSpPr>
          <a:xfrm>
            <a:off x="0" y="1752480"/>
            <a:ext cx="9144000" cy="5047920"/>
            <a:chOff x="0" y="1752480"/>
            <a:chExt cx="9144000" cy="5047920"/>
          </a:xfrm>
        </p:grpSpPr>
        <p:graphicFrame>
          <p:nvGraphicFramePr>
            <p:cNvPr id="360" name=""/>
            <p:cNvGraphicFramePr/>
            <p:nvPr/>
          </p:nvGraphicFramePr>
          <p:xfrm>
            <a:off x="228600" y="6095880"/>
            <a:ext cx="1143000" cy="370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6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8600" y="6095880"/>
                      <a:ext cx="1143000" cy="370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2" name=""/>
            <p:cNvSpPr/>
            <p:nvPr/>
          </p:nvSpPr>
          <p:spPr>
            <a:xfrm>
              <a:off x="0" y="4572000"/>
              <a:ext cx="9144000" cy="22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онечно, кратчайшим путем между точками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 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 </a:t>
              </a:r>
              <a:r>
                <a:rPr b="0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 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является отрезок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Однако, чтобы муха могла попасть на внутреннюю сторону банки, ей нужно переползти через край в некоторой точке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Рассмотрим точку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, симметричную точке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относительно стороны прямоугольника. Тогда отрезки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C 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</a:t>
              </a:r>
              <a:r>
                <a:rPr b="0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 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вны, следовательно, длина кратчайшего пути равна длине отрезка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</a:t>
              </a:r>
              <a:r>
                <a:rPr b="0" i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Она равна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ответствующий путь на поверхности банки изображен на рисунке 39.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63" name="" descr=""/>
            <p:cNvPicPr/>
            <p:nvPr/>
          </p:nvPicPr>
          <p:blipFill>
            <a:blip r:embed="rId5"/>
            <a:stretch/>
          </p:blipFill>
          <p:spPr>
            <a:xfrm>
              <a:off x="762120" y="1752480"/>
              <a:ext cx="1919160" cy="2210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Расстояния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60948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ратчайший путь по поверхности Земного шара из пункта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расположенного на широте 54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до пункта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расположенного в диаметрально противоположной точке той же широты. Длина экватора равна 40000 к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380880" y="2819520"/>
            <a:ext cx="3259080" cy="3216240"/>
          </a:xfrm>
          <a:prstGeom prst="rect">
            <a:avLst/>
          </a:prstGeom>
          <a:ln w="0">
            <a:noFill/>
          </a:ln>
        </p:spPr>
      </p:pic>
      <p:grpSp>
        <p:nvGrpSpPr>
          <p:cNvPr id="367" name=""/>
          <p:cNvGrpSpPr/>
          <p:nvPr/>
        </p:nvGrpSpPr>
        <p:grpSpPr>
          <a:xfrm>
            <a:off x="380880" y="2590920"/>
            <a:ext cx="8763120" cy="3444840"/>
            <a:chOff x="380880" y="2590920"/>
            <a:chExt cx="8763120" cy="3444840"/>
          </a:xfrm>
        </p:grpSpPr>
        <p:pic>
          <p:nvPicPr>
            <p:cNvPr id="368" name="" descr=""/>
            <p:cNvPicPr/>
            <p:nvPr/>
          </p:nvPicPr>
          <p:blipFill>
            <a:blip r:embed="rId2"/>
            <a:stretch/>
          </p:blipFill>
          <p:spPr>
            <a:xfrm>
              <a:off x="380880" y="2819520"/>
              <a:ext cx="3259080" cy="321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3733920" y="2590920"/>
              <a:ext cx="5410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Длина дуги окружности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тмеченной на рисунке красным цветом, равн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70" name=""/>
            <p:cNvGraphicFramePr/>
            <p:nvPr/>
          </p:nvGraphicFramePr>
          <p:xfrm>
            <a:off x="4336920" y="3733920"/>
            <a:ext cx="3900600" cy="430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7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336920" y="3733920"/>
                      <a:ext cx="3900600" cy="430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72" name=""/>
          <p:cNvGrpSpPr/>
          <p:nvPr/>
        </p:nvGrpSpPr>
        <p:grpSpPr>
          <a:xfrm>
            <a:off x="380880" y="2819520"/>
            <a:ext cx="8763120" cy="3216240"/>
            <a:chOff x="380880" y="2819520"/>
            <a:chExt cx="8763120" cy="3216240"/>
          </a:xfrm>
        </p:grpSpPr>
        <p:sp>
          <p:nvSpPr>
            <p:cNvPr id="373" name=""/>
            <p:cNvSpPr/>
            <p:nvPr/>
          </p:nvSpPr>
          <p:spPr>
            <a:xfrm>
              <a:off x="3733920" y="4114800"/>
              <a:ext cx="54100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Длина дуги окружности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роходящей через Северный полюс, отмеченной на рисунке зеленым цветом, равна 8000 км. Этот путь и является кратчайшим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74" name="" descr=""/>
            <p:cNvPicPr/>
            <p:nvPr/>
          </p:nvPicPr>
          <p:blipFill>
            <a:blip r:embed="rId5"/>
            <a:stretch/>
          </p:blipFill>
          <p:spPr>
            <a:xfrm>
              <a:off x="380880" y="2819520"/>
              <a:ext cx="3259080" cy="3216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Площадь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0" y="6094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наибольшей площади может быть прямоугольная площадка периметра 100 м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152280" y="1676520"/>
            <a:ext cx="8991720" cy="3020040"/>
            <a:chOff x="152280" y="1676520"/>
            <a:chExt cx="8991720" cy="3020040"/>
          </a:xfrm>
        </p:grpSpPr>
        <p:sp>
          <p:nvSpPr>
            <p:cNvPr id="378" name=""/>
            <p:cNvSpPr/>
            <p:nvPr/>
          </p:nvSpPr>
          <p:spPr>
            <a:xfrm>
              <a:off x="152280" y="1676520"/>
              <a:ext cx="899172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ибольшая площадь будет в случае, если площадка квадратная. Действительно, пусть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 соседние стороны прямоугольника периметр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Воспользуемся неравенством между средним арифметическим и средним геометрическим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            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равенство в котором принимается только в случа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Из него следует, что площадь прямоугольника меньше или равн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/16 и достигает этого значения в случае, есл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 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/4. В нашем случае она равна 625 м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79" name=""/>
            <p:cNvGraphicFramePr/>
            <p:nvPr/>
          </p:nvGraphicFramePr>
          <p:xfrm>
            <a:off x="7391520" y="2743200"/>
            <a:ext cx="1218960" cy="603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391520" y="2743200"/>
                      <a:ext cx="1218960" cy="603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28600" y="53352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м, кто  стал  изучать  циклоиду, был Галилео Галилей (1564 – 1642). Он же придумал и ее названи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7" descr="C:\Documents and Settings\Администратор\Мои документы\VOL\Презентации\Вводный курс\Галилей.jpg"/>
          <p:cNvPicPr/>
          <p:nvPr/>
        </p:nvPicPr>
        <p:blipFill>
          <a:blip r:embed="rId1"/>
          <a:stretch/>
        </p:blipFill>
        <p:spPr>
          <a:xfrm>
            <a:off x="2743200" y="1447920"/>
            <a:ext cx="3516480" cy="39621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алилео Галил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Площадь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0" y="6094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го наименьшего периметра может быть прямоугольная площадка площади 100 м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0" y="1905120"/>
            <a:ext cx="8915400" cy="3020040"/>
            <a:chOff x="0" y="1905120"/>
            <a:chExt cx="8915400" cy="3020040"/>
          </a:xfrm>
        </p:grpSpPr>
        <p:sp>
          <p:nvSpPr>
            <p:cNvPr id="384" name=""/>
            <p:cNvSpPr/>
            <p:nvPr/>
          </p:nvSpPr>
          <p:spPr>
            <a:xfrm>
              <a:off x="0" y="1905120"/>
              <a:ext cx="891540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Решение.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именьший периметр будет в случае, если площадка квадратная. Действительно, пусть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 соседние стороны прямоугольника площад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Воспользуемся неравенством между средним арифметическим и средним геометрическим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       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равенство в котором принимается только в случа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Из него следует, что периметр прямоугольника больше или равен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     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 достигает этого значения в случае, есл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В нашем случае он равен 40 м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85" name=""/>
            <p:cNvGraphicFramePr/>
            <p:nvPr/>
          </p:nvGraphicFramePr>
          <p:xfrm>
            <a:off x="7162920" y="2971800"/>
            <a:ext cx="1143000" cy="565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8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162920" y="2971800"/>
                      <a:ext cx="1143000" cy="565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87" name=""/>
            <p:cNvGraphicFramePr/>
            <p:nvPr/>
          </p:nvGraphicFramePr>
          <p:xfrm>
            <a:off x="7696080" y="3733920"/>
            <a:ext cx="533520" cy="361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8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96080" y="3733920"/>
                      <a:ext cx="533520" cy="36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89" name=""/>
            <p:cNvGraphicFramePr/>
            <p:nvPr/>
          </p:nvGraphicFramePr>
          <p:xfrm>
            <a:off x="6629400" y="4114800"/>
            <a:ext cx="457200" cy="3985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9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629400" y="4114800"/>
                      <a:ext cx="457200" cy="398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Объём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0" y="6094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наименьшей площади поверхности может быть коробка в форме прямоугольного параллелепипеда, объём которой равен 1000 см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85800" y="4191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600 см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Объём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0" y="6094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го наибольшего объёма может быть коробка в форме прямоугольного параллелепипеда, площадь поверхности которой равна 600 см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85800" y="41911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000 см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Свойство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2280" y="533520"/>
            <a:ext cx="8991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Ледяная гора.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696 году И.Бернулли поставил задачу о нахождении кривой наискорейшего спуска, или, иначе говоря, задачу о том, какова должна быть форма ледяной горк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рис. а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чтобы, скатываясь по ней, совершить путь из начальной точ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конечную точку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 кратчайшее врем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скомую кривую назвали "брахистохроной", т.е. кривой кратчайшего времен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274320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и математиков, решавших эту задачу, были: Г.Лейбниц, И.Ньютон, Г.Лопиталь и Я.Бернулли. Они доказали, что искомой кривой является перевернутая циклоида (рис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09480" y="3962520"/>
            <a:ext cx="8091720" cy="27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Свойство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280" y="380880"/>
            <a:ext cx="8991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Часы с маятником.</a:t>
            </a:r>
            <a:r>
              <a:rPr b="0" lang="ru-RU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ы с обычным маятником не могут идти точно, поскольку период колебаний маятника зависит от его амплитуды. Голландский ученый Христиан Гюйгенс (1629 – 1695) задался вопросом, по какой кривой должен двигаться шарик на нитке маятника, чтобы период его колебаний не зависел от амплитуды. Искомой кривой оказалась перевернутая циклоид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ис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1, 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За это свойство циклоиду называют также "таутохрона" – кривая равных времен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, например, в форме перевернутой циклоиды изготовить желоб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рис. 1)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устить по нему шарик, то период движения шарика под действием силы тяжести не будет зависеть от начального его положения и от амплитуд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295280" y="4724280"/>
            <a:ext cx="6627960" cy="16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6094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арисуйте траекторию движения вершины правильного треугольника, катящегося по прямо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52480" y="2666880"/>
            <a:ext cx="6418440" cy="22543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752480" y="2651040"/>
            <a:ext cx="6472440" cy="23227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1752480" y="2438280"/>
            <a:ext cx="647388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Упражнение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094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арисуйте траекторию движения вершины квадрата, катящегося по прямо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616040" y="2481120"/>
            <a:ext cx="5910120" cy="1898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600200" y="2438280"/>
            <a:ext cx="5910120" cy="18986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600200" y="2286000"/>
            <a:ext cx="6006960" cy="20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1T04:25:54Z</dcterms:created>
  <dc:creator>*</dc:creator>
  <dc:description/>
  <dc:language>en-US</dc:language>
  <cp:lastModifiedBy>*</cp:lastModifiedBy>
  <dcterms:modified xsi:type="dcterms:W3CDTF">2013-01-23T09:22:45Z</dcterms:modified>
  <cp:revision>11</cp:revision>
  <dc:subject/>
  <dc:title>Реальная математика</dc:title>
</cp:coreProperties>
</file>