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6ACD-CB88-429F-ABD7-E8AB91507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14B7-3422-428C-BA03-F807BF46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C7F2-6A93-43ED-9426-EA23A9C5C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5F4C-16BC-4E8C-9580-052653D53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73A6-ADEA-448F-864C-1CA9CFCC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9FF5-796A-4D2C-BF6F-E22C2818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8D40-5553-47F2-81CD-90B17CF5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AE45-569D-4F96-8CD4-5CD5ACEA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78E9-FF69-404B-A565-EB433477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61FF-2DBA-46B3-A7F1-92B8CC85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65D7-4BBE-441E-B3D3-735FC037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2A16-A043-44C1-931A-DCAF1AA2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7584-B5A5-40A1-83B9-3ADAF4487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треугольник, вершины которого имеют координаты (-1, 0), (3, 0), (3, 3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580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треугольник, вершины которого имеют координаты (0, 0), (-2, -2), (4, -2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62120" y="5638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треугольник, вершины которого имеют координаты (0, 0), (3, 0), (-2, 2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62120" y="5638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8600" y="228600"/>
            <a:ext cx="8686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треугольник, вершины которого имеют координаты (0, 0), (2, 0), (4, 2). Найдите его площад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62120" y="5638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треугольник, вершины которого имеют координаты (0, 0), (3, -2), (0, 2). Найдите его площад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62120" y="5638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треугольник, вершины которого имеют координаты (0, 0), (4, 4), (0, 2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62120" y="5638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треугольник, вершины которого имеют координаты (0, 0), (0, 2), (-2, -2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62120" y="5638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треугольник, вершины которого имеют координаты (0, -1), (0, 2), (-2, 4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62120" y="5638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треугольник, вершины которого имеют координаты (-1, 1), (3, 1), (2, 4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62120" y="5638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треугольник, вершины которого имеют координаты (3, -1), (-1, 4), (-1, 1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2120" y="5638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треугольник, вершины которого имеют координаты (2, 0), (0, 2), (-2, -2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62120" y="5638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треугольник, вершины которого имеют координаты (0, -2), (3, 3), (0, 3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62120" y="5638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7,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треугольник, вершины которого имеют координаты (3, 0), (0, 2), (-3, -1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2120" y="5638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7,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треугольник, вершины которого имеют координаты (2, -3), (0, 4), (-2, 1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62120" y="5638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треугольник, вершины которого имеют координаты (2, 0), (0, 2), (-2, 3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62120" y="5638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треугольник, вершины которого имеют координаты (2, 1), (1, 4), (-2, -3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62120" y="5638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треугольник, вершины которого имеют координаты (1, 1), (3, 3), (-3, 2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62120" y="5638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треугольник, вершины которого имеют координаты (3, 3), (1, 4), (-1, 1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62120" y="5638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89548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треугольник, вершины которого имеют координаты (3, -2), (1, 4), (-3, 1). Найдите его площад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62120" y="5638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треугольник, вершины которого имеют координаты (2, -2), (3, 3), (1, 4). Найдите его площад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62120" y="5638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5,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треугольник, вершины которого имеют координаты (4, 3), (1, 4), (-2, 2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62120" y="5638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треугольник, вершины которого имеют координаты (4, 1), (2, 4), (-2, -1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62120" y="5638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треугольник, вершины которого имеют координаты (-1, 0), (3, 0), (1, 4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62120" y="5638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треугольник, вершины которого имеют координаты (3, -2), (4, 2), (-2, 3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762120" y="5638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,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треугольник, вершины которого имеют координаты (0, -2), (4, 0), (0, 3). Найдите его площад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62120" y="5638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треугольник, вершины которого имеют координаты (2, -2), (2, 2), (-2, 2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62120" y="5638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треугольник, вершины которого имеют координаты (-2, -2), (3, 3), (-2, 3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62120" y="5638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2,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треугольник, вершины которого имеют координаты (0, 0), (2, 2), (-2, 2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62120" y="5638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треугольник, вершины которого имеют координаты (0, 0), (2, -3), (2, 3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2120" y="5638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треугольник, вершины которого имеют координаты (0, 0), (-2, 3), (-2, -2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62120" y="56386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05:06:28Z</dcterms:created>
  <dc:creator>*</dc:creator>
  <dc:description/>
  <dc:language>en-US</dc:language>
  <cp:lastModifiedBy>*</cp:lastModifiedBy>
  <dcterms:modified xsi:type="dcterms:W3CDTF">2010-01-24T05:13:41Z</dcterms:modified>
  <cp:revision>25</cp:revision>
  <dc:subject/>
  <dc:title>Презентация PowerPoint</dc:title>
</cp:coreProperties>
</file>