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E8D-20C9-47E5-9EF6-2C3E9534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C91-0C04-437F-892E-5685A654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493C-0789-461E-81CD-1838A4EA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EF0-7AA4-47B6-8A28-B65AF8DF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2127-7CB5-4F43-B71B-5DC4324D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580-9DB4-42BE-8B73-92DE671D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6C1-3B2B-4EA1-B2D3-62459330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303-0FED-4557-BFAD-D5399A97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4EE-8D3A-475C-B485-B8F71FB7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FCC-ED6A-4A6D-A135-738AD70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37A-5655-47F7-ADC4-EEB8D3A3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037-3582-4790-865A-D36819D7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85E9-5E47-493C-A580-A703B1E4E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окружности равна 60 см. Найдите длину дуги этой окружности, содержащую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18288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минутной стрелки часов на Спасской башне Московского кремля приблизительно равна 3,5 м. За сколько минут ее конец пройдет путь длиной 105 см?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791320" y="106668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06668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886200" y="2209680"/>
            <a:ext cx="1592280" cy="15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га проехала 5,4 км. Диаметры ее переднего и заднего колес равны соответственно 60 см и 90 см. На сколько больше оборотов сделает переднее колесо по сравнению с задним?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5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905120" y="144792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44792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152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етры переднего и заднего колес телеги равны соответственно 60 см и 90 см. Какое расстояние (в метрах) проехала телега, если ее переднее колесо сделало на 100 оборотов больше, чем заднее?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343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10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791320" y="144792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144792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200400" y="2514600"/>
            <a:ext cx="31528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экватора земного шара примерно равна 40000 км. На сколько метров увеличился бы этот экватор, если бы радиус земного шара увеличился на 1 м?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248520" y="106668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06668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657600" y="1981080"/>
            <a:ext cx="18702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286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 стадиона имеет форму прямоугольника с примыкающими к нему с двух сторон полукругами. Длина беговой дорожки вокруг поля равна 400 м. Длина каждого из двух прямолинейных участков дорожки равна 100 м. Найдите шир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я стадиона. В ответе укаж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2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72200" y="1752480"/>
          <a:ext cx="4446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752480"/>
                    <a:ext cx="444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124080" y="2743200"/>
            <a:ext cx="2971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2286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спортсмена должны пробежать один круг по дорожке стадиона, форма которого – прямоугольник с примыкающими к нему с двух сторон полукругами. Один бежит по дорожке, расположенной на 2 м дальше от края, чем другой. Какое расстояние должно быть между ними на старте, чтобы компенсировать разность длин дорожек, по которым они бегут?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828800" y="251460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048120" y="3048120"/>
            <a:ext cx="308592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2286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 и Новороссийск расположены примерно на одном меридиане  под 5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4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верной широты соответственно. Найдите расстояние между ними по земной поверхности, считая длину большой окружности земного шара равной 400000 км. В ответе укажите целое число километ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34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13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71800" y="2438280"/>
            <a:ext cx="2743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2286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между Москвой и Вашингтоном, измеряемое по большой окружности поверхности Земли, примерно равно 7800 км. Найдите примерную величину соответствующей дуги большой окружности, считая длину всей окружности равной 40000 км. В ответе укажите целое число градус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4004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длины должен быть приводной ремень, соединяющий два шкива с диаметрами 20 см, если расстояние между их центрами равно 50 см?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1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248520" y="106668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06668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743200" y="2133720"/>
            <a:ext cx="3579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ляру нужно сделать круглый стол на 6 человек. Каким должен быть диаметр стола (в сантиметрах), чтобы на каждого из сидящих за столом шести человек приходилось 80 см по окружности стола?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1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419720" y="144792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44792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81280" y="2362320"/>
            <a:ext cx="17640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лину окружности вавилоняне принимали периметр правильного шестиугольника, вписанного в эту окружность. Найдите приближение дл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исла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м пользовались вавилонян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1828800" cy="180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5181480" y="1066680"/>
          <a:ext cx="203400" cy="20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066680"/>
                    <a:ext cx="20340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наибольшее число людей можно рассадить за круглым столом радиуса 1 м так, чтобы на каждого человека приходилось не менее 60 см длины дуги окружности стола?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828800" y="144792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4792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733920" y="2286000"/>
            <a:ext cx="173196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проводная труба имеет в обхвате 246 см и толщину стенок 2 см. Найдите внутренний диаметр сечения трубы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7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106668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505320" y="1981080"/>
            <a:ext cx="211752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дцать стальных шариков диаметром по 16 мм находятся в подшипнике. Используя таблицу тригонометрических функций, найдите радиус внутреннего круга подшип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657600" y="1981080"/>
            <a:ext cx="16462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228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нутренней стенке цилиндрической банки, радиус основания которой равен 4 см, в двух с половиной сантиметрах от верхнего края висит капля меда, а на наружной стенке, в диаметрально противоположной точке, сидит муха. Найдите длину кратчайшего пути, по которому муха может доползти до меда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90920" y="213372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13372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962520" y="2819520"/>
            <a:ext cx="13143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го наименьшего радиуса должна быть цилиндрическая банка, чтобы в нее можно было поместить тетраэдр, ребра которого равны 6 см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356868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286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аким углом человек видит ноготь своего указательного пальца вытянутой руки, если ширина ногтя примерно равна 1 см, а расстояние от него до глаза человека примерно равно 60 см? В ответе укажите целое число градусов. (Прим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620120" y="137160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137160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ок из лука видит мишень диаметра 120 см под углом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расстояние до мишени. Укажите приближенное значение, выражаемое целым числом метров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7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772400" y="106668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106668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среднего роста (1,7 м) виден издали под углом 12’. Найдите расстояние до него. В ответе укажите целое число метров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5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5480" y="1066680"/>
          <a:ext cx="6480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066680"/>
                    <a:ext cx="6480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графный столб, высотой 8 м, виден под углом 30’. Найдите расстояние до него. В ответе укажите целое число метров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9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106668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06668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на видна с Земли под углом 30’. Найдите приближенное расстояние до Луны, зная, что ее диаметр приближенно равен 3400 км. В ответе укажите целое число километров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343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48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44792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 диаметром 1 м откатился по прямой на 10 м. Сколько полных оборотов он сделал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51172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видно с Земли под углом 30’. Найдите приближенное расстояние до Солнца, зная, что его диаметр приближенно равен 1300000 км. В ответе укажите целое число километров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343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60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28800" y="144792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4792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 от Земли до Луны приблизительно равно 385000 км. Диаметр Земли приближенно равен 12740 км. Найдите примерный угол, под которым Земля видна с поверхности Луны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743200" y="144792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аким углом виден самолет, длина которого равна 30 м, пролетающий над наблюдателем на высоте 9000 м? В ответе укажите приближенное значение в минутах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696080" y="1066680"/>
          <a:ext cx="6480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1066680"/>
                    <a:ext cx="6480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зд едет со скоростью 81 км/ч. Диаметр его колеса равен 120 см. Сколько оборотов в минуту делает колесо поезда?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37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06668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429000" y="1981080"/>
            <a:ext cx="20415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скорость поезда (в км/ч), если диаметр его колеса равен 120 см и оно делает 300 оборотов в минуту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343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64,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467480" y="685800"/>
          <a:ext cx="6480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685800"/>
                    <a:ext cx="6480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429000" y="1905120"/>
            <a:ext cx="20415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нятии воды из колодца вал делает 20 оборотов. Найдите глубину колодца (в метрах), если диаметр вала равен 0,2 м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752480" y="1066680"/>
          <a:ext cx="6480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066680"/>
                    <a:ext cx="6480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657600" y="2209680"/>
            <a:ext cx="1571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оборотов должен сделать вал, чтобы поднять воду из колодца глубиной 9 м, если диаметр вала равен 0,2 м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1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06668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81280" y="2209680"/>
            <a:ext cx="1571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минутной стрелки часов на Спасской башне Московского кремля приблизительно равна 3,5 м. Найдите длину окружности (в метрах), которую описывает конец минутной стрелки в течение одного часа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2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648320" y="144792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44792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733920" y="2286000"/>
            <a:ext cx="159228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минутной стрелки часов на Спасской башне Московского кремля приблизительно равна 3,5 м. Какой путь (в сантиметрах) проходит ее конец за 1 мин?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  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562720" y="106668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06668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809880" y="2209680"/>
            <a:ext cx="1592280" cy="15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1-12T04:08:50Z</dcterms:modified>
  <cp:revision>20</cp:revision>
  <dc:subject/>
  <dc:title>Презентация PowerPoint</dc:title>
</cp:coreProperties>
</file>