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AFF-9829-4420-9F61-09A2F3F4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3B0-361F-4C81-A75A-B9E0E338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C73-CF04-42F9-8485-3302A15D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705-6369-4DAC-84D8-58DBAFAA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43E-40E9-4393-AEE1-C3C37B86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50A-CA79-453A-9F60-5AD5A659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4C6-8CD7-42F3-9682-E431CE66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B63-57A8-4412-AC84-6907B667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571-27F8-4DCF-A8C0-3260FA9B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591-6F94-465C-81F6-82F7F3A8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F97-0C0E-4B14-A4EB-48DD75D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DB7-105F-4E30-8789-FA9DA4F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F209-5F9D-44DD-88B0-9C7692675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окружность с центром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1), проходящую через начало координат. Найдите площадь круга, ограниченного этой окружност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85800" y="5105520"/>
            <a:ext cx="1828800" cy="459720"/>
            <a:chOff x="685800" y="5105520"/>
            <a:chExt cx="1828800" cy="459720"/>
          </a:xfrm>
        </p:grpSpPr>
        <p:sp>
          <p:nvSpPr>
            <p:cNvPr id="45" name=""/>
            <p:cNvSpPr/>
            <p:nvPr/>
          </p:nvSpPr>
          <p:spPr>
            <a:xfrm>
              <a:off x="68580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5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"/>
            <p:cNvGraphicFramePr/>
            <p:nvPr/>
          </p:nvGraphicFramePr>
          <p:xfrm>
            <a:off x="1905120" y="5257800"/>
            <a:ext cx="203040" cy="203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05120" y="5257800"/>
                      <a:ext cx="20304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окружность с центром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1), касающуюся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лощадь круга, ограниченного этой окружность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85800" y="5105520"/>
            <a:ext cx="2362320" cy="459720"/>
            <a:chOff x="685800" y="5105520"/>
            <a:chExt cx="2362320" cy="459720"/>
          </a:xfrm>
        </p:grpSpPr>
        <p:sp>
          <p:nvSpPr>
            <p:cNvPr id="107" name=""/>
            <p:cNvSpPr/>
            <p:nvPr/>
          </p:nvSpPr>
          <p:spPr>
            <a:xfrm>
              <a:off x="685800" y="5105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4,5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2209680" y="5257800"/>
            <a:ext cx="203400" cy="20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09680" y="525780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окружность, диаметром которой является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3, 0)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, 2). Найдите площадь круга, ограниченного этой окружност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685800" y="5105520"/>
            <a:ext cx="1828800" cy="459720"/>
            <a:chOff x="685800" y="5105520"/>
            <a:chExt cx="1828800" cy="459720"/>
          </a:xfrm>
        </p:grpSpPr>
        <p:sp>
          <p:nvSpPr>
            <p:cNvPr id="51" name=""/>
            <p:cNvSpPr/>
            <p:nvPr/>
          </p:nvSpPr>
          <p:spPr>
            <a:xfrm>
              <a:off x="68580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10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2057400" y="5257800"/>
            <a:ext cx="203040" cy="20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7400" y="5257800"/>
                      <a:ext cx="20304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окружность с центром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, 2), касающуюся оси абсцисс. Найдите площадь круга, ограниченного этой окружност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685800" y="5105520"/>
            <a:ext cx="1828800" cy="459720"/>
            <a:chOff x="685800" y="5105520"/>
            <a:chExt cx="1828800" cy="459720"/>
          </a:xfrm>
        </p:grpSpPr>
        <p:sp>
          <p:nvSpPr>
            <p:cNvPr id="58" name=""/>
            <p:cNvSpPr/>
            <p:nvPr/>
          </p:nvSpPr>
          <p:spPr>
            <a:xfrm>
              <a:off x="68580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4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981080" y="5257800"/>
            <a:ext cx="203400" cy="20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81080" y="525780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окружность с центром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 -2), касающуюся оси ординат. Найдите площадь круга, ограниченного этой окружност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685800" y="5105520"/>
            <a:ext cx="1828800" cy="459720"/>
            <a:chOff x="685800" y="5105520"/>
            <a:chExt cx="1828800" cy="459720"/>
          </a:xfrm>
        </p:grpSpPr>
        <p:sp>
          <p:nvSpPr>
            <p:cNvPr id="65" name=""/>
            <p:cNvSpPr/>
            <p:nvPr/>
          </p:nvSpPr>
          <p:spPr>
            <a:xfrm>
              <a:off x="68580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1828800" y="5257800"/>
            <a:ext cx="203040" cy="20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8800" y="5257800"/>
                      <a:ext cx="20304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окружность, проходящую через точки, с координатами (0, 0), (2, 0), (0, 2). Найдите площадь круга, ограниченного этой окружност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685800" y="5105520"/>
            <a:ext cx="1828800" cy="459720"/>
            <a:chOff x="685800" y="5105520"/>
            <a:chExt cx="1828800" cy="459720"/>
          </a:xfrm>
        </p:grpSpPr>
        <p:sp>
          <p:nvSpPr>
            <p:cNvPr id="72" name=""/>
            <p:cNvSpPr/>
            <p:nvPr/>
          </p:nvSpPr>
          <p:spPr>
            <a:xfrm>
              <a:off x="68580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2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3" name=""/>
            <p:cNvGraphicFramePr/>
            <p:nvPr/>
          </p:nvGraphicFramePr>
          <p:xfrm>
            <a:off x="1981080" y="5257800"/>
            <a:ext cx="203400" cy="20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81080" y="525780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окружность, проходящую через точки, с координатами (-3, 0), (0, 3), (-3, 3). Найдите площадь круга, ограниченного этой окружност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685800" y="5105520"/>
            <a:ext cx="2362320" cy="459720"/>
            <a:chOff x="685800" y="5105520"/>
            <a:chExt cx="2362320" cy="459720"/>
          </a:xfrm>
        </p:grpSpPr>
        <p:sp>
          <p:nvSpPr>
            <p:cNvPr id="79" name=""/>
            <p:cNvSpPr/>
            <p:nvPr/>
          </p:nvSpPr>
          <p:spPr>
            <a:xfrm>
              <a:off x="685800" y="5105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4,5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2209680" y="5257800"/>
            <a:ext cx="203400" cy="20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09680" y="525780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743200" y="1752480"/>
            <a:ext cx="35575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окружность, проходящую через точки, с координатами (0, 0), (2, 0), (3, 1). Найдите площадь круга, ограниченного этой окружност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685800" y="5105520"/>
            <a:ext cx="2362320" cy="459720"/>
            <a:chOff x="685800" y="5105520"/>
            <a:chExt cx="2362320" cy="459720"/>
          </a:xfrm>
        </p:grpSpPr>
        <p:sp>
          <p:nvSpPr>
            <p:cNvPr id="86" name=""/>
            <p:cNvSpPr/>
            <p:nvPr/>
          </p:nvSpPr>
          <p:spPr>
            <a:xfrm>
              <a:off x="685800" y="5105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    5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2209680" y="5257800"/>
            <a:ext cx="203400" cy="20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09680" y="525780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окружность, проходящую через точки, с координатами (0, -1), (0, 1), (1, 2). Найдите площадь круга, ограниченного этой окружност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685800" y="5105520"/>
            <a:ext cx="2362320" cy="459720"/>
            <a:chOff x="685800" y="5105520"/>
            <a:chExt cx="2362320" cy="459720"/>
          </a:xfrm>
        </p:grpSpPr>
        <p:sp>
          <p:nvSpPr>
            <p:cNvPr id="93" name=""/>
            <p:cNvSpPr/>
            <p:nvPr/>
          </p:nvSpPr>
          <p:spPr>
            <a:xfrm>
              <a:off x="685800" y="5105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    5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2209680" y="5257800"/>
            <a:ext cx="203400" cy="20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09680" y="525780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уйте окружность с центром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-1), касающуюся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лощадь круга, ограниченного этой окружност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51200" y="1765440"/>
            <a:ext cx="3440160" cy="3332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85800" y="5105520"/>
            <a:ext cx="2362320" cy="459720"/>
            <a:chOff x="685800" y="5105520"/>
            <a:chExt cx="2362320" cy="459720"/>
          </a:xfrm>
        </p:grpSpPr>
        <p:sp>
          <p:nvSpPr>
            <p:cNvPr id="100" name=""/>
            <p:cNvSpPr/>
            <p:nvPr/>
          </p:nvSpPr>
          <p:spPr>
            <a:xfrm>
              <a:off x="685800" y="5105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 4,5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2209680" y="5257800"/>
            <a:ext cx="203400" cy="20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09680" y="525780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819520" y="1752480"/>
            <a:ext cx="34401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24T07:17:03Z</dcterms:modified>
  <cp:revision>32</cp:revision>
  <dc:subject/>
  <dc:title>Презентация PowerPoint</dc:title>
</cp:coreProperties>
</file>