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75B-690C-4B12-8626-FA4E54FC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A83-DB06-4495-988A-BBFE8D98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0DE-2E96-48D2-A3BA-D8329F05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438-AFF0-4337-8542-A2547844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0E6-626F-4B81-AE0B-22700BC9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F3F-CD28-4BEE-99E5-3C90579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A5D-AE9A-4ECA-BE2E-4A1AD924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6DE-08E8-4420-B03E-A489768C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978C-1AAC-4143-9005-0AB79F7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04A-503B-4607-BA7F-6E93C068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87B-8747-4F57-A9B2-DC4DE09A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2D9-2496-4EB2-B309-AAD013EE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8F6-FE7E-4428-BCCD-64F1C955C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земельного участка, имеющего форму прямоугольника, равна 9 га, ширина участка равна 150 м. Найдите длину этого учас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51136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потребуется кафельных плиток квадратной формы со стороной 15 см, чтобы облицевать ими стену, имеющую форму прямоугольника со сторонами 3 м и 2,7 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427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стены заводского здания, изображенной на рису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484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земельного участка, изображенного на рису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8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2209680"/>
            <a:ext cx="29178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ок между двумя параллельными улицами имеет вид четырех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8 м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0 м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0 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Найдите площадь этого участка. В ответе укажите приближенное значение, равное целому числу квадратных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8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27036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участка земли равна 120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му равна его площадь (в д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на плане, если масштаб равен 1:1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180648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лана участка земли равна 3,75 д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сштаб плана 1:200. Чему равна площадь самого участка (в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81280" y="2133720"/>
            <a:ext cx="18068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трубы, диаметры которых 10 см и 24 см, требуется заменить одной, не изменяя их пропускной способности. Каким должен быть диаметр новой трубы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27464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 имеет в обхвате 120 см. Найдите примерную площадь поперечного сечения (в с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меющего форму круга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35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7841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мажная лента плотно намотана на катушку, внутренний диаметр которой равен 20 см. толщина бумаги равна 0,5 мм, а толщина намотанного рулона 30 см. Найдите длину бумажной ленты. Ответ дайте в метр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638680" y="144792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44792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1849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вадратного листа жести со стороной 20 см вырезали круг наибольшего диаметра. Какой примерный процент площади листа жести составляет площадь обрезков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54380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81280" y="2209680"/>
            <a:ext cx="2052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ериметр прямоугольного участка земли, площадь которого равна 80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дна сторона в 2 раза больше друг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06388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чок человеческого глаза, имеющий форму круга, может изменять свой диаметр в зависимости от освещения от 1,5 мм до 7,5 мм. Во сколько раз при этом увеличивается площадь поверхности зрач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19242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требуется покрыть паркетом из белых и черных плиток, имеющих форму правильных шестиугольников. Фрагмент паркета показан на рисунке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йдите отношение чис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ых плиток парк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 числу черны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4051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требуется покрыть паркетом из восьмиугольных и квадратных плиток. Фрагмент паркета показан на рисунке. Найдите отношение числа квадратных плиток к числу восьмиуголь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3194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лесного массива (в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зображенного на плане с квадратной сеткой 1х1 (см) в масштабе 1 см – 200 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20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554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ля (в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зображенного на плане с квадратной сеткой 1х1 (см) в масштабе 1 см – 200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554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детали, изображенной на рисунке (все двугранные углы прям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585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детали, изображенной на рисунке (все двугранные углы прям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22989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лощадь поверхности детали, изображенной на рисунке (все двугранные углы прям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4051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грани куба с ребром 3 см проделали сквозное квадратное отверстие со стороной квадрата 1 см. Найдите площадь полной поверхности оставшейся ч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171468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тбольное поле имеет форму прямоугольника, длина которого в 1,5 раза больше ширины. Площадь футбольного поля равна 735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его шири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2986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футбольных ворот равна 8 ярдов, высота – 8 футов. Найдите площадь футбольных ворот в квадратных футах (один ярд составляет три фу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49084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тки вратарской площадки на футбольном поле на расстоянии 6 ярдов от каждой стойки ворот, под прямым углом к линии ворот, вглубь поля проводятся два отрезка, длиной 6 ярдов. Концы этих отрезков соединяются отрезком, параллельным линии ворот. Найдите площадь вратарской площадки в квадратных футах, учитывая, что ширина ворот равна 8 ярдов (один ярд составляет три фу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29178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тки штрафной площади на футбольном поле на расстоянии 18 ярдов от каждой стойки ворот, под прямым углом к линии ворот, вглубь поля проводятся два отрезка, длиной 18 ярдов. Концы этих отрезков соединяются отрезком, параллельным линии ворот. Найдите приближенную площадь штрафной площади в квадратных метрах, учитывая, что ширина ворот равна 8 ярдов (один ярд приближенно равен 0,9 м). В ответе укажите целое число квадратных 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4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3859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а хоккейных ворот равна 6 футов, высота – 4 фута. Найдите приближенную площадь ворот в квадратных метрах с точностью до двух знаков после запятой. (Один фут равен 30,5 см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,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29000" y="2438280"/>
            <a:ext cx="24271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ная площадка имеет форму прямоугольника размером 200х85 (футов) с углами, закругленными по дугам окружностей радиуса 28 футов. Найдите примерную площадь хоккейной площадки в квадратных фут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724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62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144792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44792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048120" y="2666880"/>
            <a:ext cx="3066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 комнаты, имеющей форму прямоугольника со сторонами 5 м и 6 м, требуется покрыть паркетом из прямоугольных дощечек со сторонами 5 см и 30 см. Сколько потребуется таких дощечек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581280" y="2514600"/>
            <a:ext cx="211788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2T05:31:54Z</dcterms:modified>
  <cp:revision>29</cp:revision>
  <dc:subject/>
  <dc:title>Презентация PowerPoint</dc:title>
</cp:coreProperties>
</file>