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4DB7-42DD-47D9-9056-7CA55DA3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F79-9D75-415B-ADBB-1B38E0E6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BB36-E1BB-4CDB-8817-3003937B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9BA7-00CC-4714-AF9E-D8089EC2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B575-7673-4163-9886-0A5A0471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CC32-3161-431C-AAF1-7D87CCBE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DDF5-06ED-4FF8-9BFC-3040A5E4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18B8-428F-4310-9423-DD2CFEFD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9DE6-513B-4EB5-80D1-85AC2FBC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C379-8594-4244-AA6A-D9289196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1816-B8ED-422E-A2E7-517ED959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F775-8F51-47D3-B130-5463C3A0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6231-4B60-469F-9F67-19699320E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=А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Е=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27672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первому признаку равенства треугольников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=А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й). 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треугольн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57600" y="914400"/>
            <a:ext cx="164628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304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тырех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иагонал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уют со стороно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е углы. Докажите, чт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43434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втор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, равны соответствующие стороны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их треугольн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25336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304920"/>
            <a:ext cx="853416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. Отрез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уют со сторонами соответственн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е углы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3352680"/>
            <a:ext cx="8610480" cy="39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равенства треугольнико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едует равенство соответствующих сторон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также соответствующих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перв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их треугольников.  Из равенства треугольнико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едует равенство соответствующих сторон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ледовательно, имеет место равенство отрез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24332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тырех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396252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тырех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диагонал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третье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). Следовательно, равны соответствующие 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треуголь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36760" y="1863720"/>
            <a:ext cx="32590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тырех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 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угол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ен угл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3434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третье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). Следовательно, равны соответствующие 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247968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= C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B = F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C = 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434340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равенства отрез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едует равенство отрез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третье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D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треугольников, а, значит, равны и смежные с ними углы 1 и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27781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39625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третье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). Следовательно, равны соответствующие углы 1 и 2 этих треугольн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22860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3049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73392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третье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). Следовательно, равны соответствующие 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перв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,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их треугольн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29000" y="1523880"/>
            <a:ext cx="228600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3049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335268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третье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). Следовательно, равны соответствующие 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перв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,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их треугольн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352680" y="1143000"/>
            <a:ext cx="228600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304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, причем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жат по разные стороны от прямо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38862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равенства треугольников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едует равенство соответствующих сторон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третье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285768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1522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иссектриса угл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иссектриса угл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36576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третьему признаку равенства треугольников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). Следовательно, равны соответствующие 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з равенства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едует равенство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втор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38760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304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 сторонах  угла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мечены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что точ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ит на сторон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точ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 сторон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че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3434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перв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В=А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й). Следовательно, равны соответствующие 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з равенства этих углов следует равенство смежных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29000" y="2209680"/>
            <a:ext cx="23734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920" y="15228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, что если две стороны и медиана, проведенная к одной из них, одного треугольника соответственно равны двум сторонам и медиане другого треугольника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3657600"/>
            <a:ext cx="87631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в треугольниках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медиан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медиан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M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третье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перв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06592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396252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 и, следовательно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Учитывая равенство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лучаем равенство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втор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треугольн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793960" y="1609560"/>
            <a:ext cx="25225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 АВ = А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равен угл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Докажите, чт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88620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. Следовательн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втор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вен угл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треугольников. Треугольник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. Следовательн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21384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9625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. Следовательн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втор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начит, равны и отрез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283212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38862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перв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треугольников.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 и, значит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23400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152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Докажите, чт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36576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втор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треугольников.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 и, значит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29000" y="1143000"/>
            <a:ext cx="217008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152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36576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657600" y="1143000"/>
            <a:ext cx="16351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152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36576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имеет место равенств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этого равенства и равенства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равенство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,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внобедренный и, следовательно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9880" y="1143000"/>
            <a:ext cx="163512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152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36576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внобедренный и, следовательн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внобедренный и, следовательн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как вертикальные. Следовательн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505320" y="1447920"/>
            <a:ext cx="188280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52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36576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з этого равенства и равенства углов 1 и 2 следует равенство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начит,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 и, следовательно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265104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= 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3434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перв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их треугольн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23400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280" y="152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, что если противоположные углы четырехугольника равны, то он – параллелограм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6576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четырехугольник, у которого противоположные углы равны. Так как сумма углов четырехугольника равна 36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сумма двух односторонних углов будет равна 18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, следовательно, противоположные стороны этого четырехугольника параллельны, т.е. он – параллелограм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27892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280" y="152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, что если диагонали параллелограмма равны, то он является прямоугольник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6576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в прямо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ы диагонал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трем сторонам. Следовательно,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 угл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сумме эти углы составляют 18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к односторонние углы при параллельных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екуще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ледовательно, эти углы равны 9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, значит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ямоугольник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2265120" cy="15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152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, что если диагонали параллелограмма перпендикулярны, то он является ромбом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36576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диагонали параллелограмм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пендикулярны и пересекаются в точ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ямоугольные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двум катетам. Следовательно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значит, параллелограм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ромбом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263988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52280" y="152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, что если диагонали прямоугольника перпендикулярны, то он является квадрат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365760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диагонали прямо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пендикулярны и пересекаются в точ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угольные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двум катетам. Следовательно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значит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вадрат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429000" y="1371600"/>
            <a:ext cx="191448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2280" y="152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, что если диагонали четырехугольника пересекаются и точкой пересечения делятся пополам, то этот четырехугольник – параллелограмм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36576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диагонали  четырех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екаются в точ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двум сторонам и углу между ними. Следовательно,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 угл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значит, отрез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и параллельны. Следовательно, четырех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араллелограмм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28116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280" y="152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, что если два угла при основании трапеции равны, то трапеция – равнобедренна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2362320" cy="15400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228600" y="1523880"/>
            <a:ext cx="8763120" cy="4056480"/>
            <a:chOff x="228600" y="1523880"/>
            <a:chExt cx="8763120" cy="4056480"/>
          </a:xfrm>
        </p:grpSpPr>
        <p:sp>
          <p:nvSpPr>
            <p:cNvPr id="146" name=""/>
            <p:cNvSpPr/>
            <p:nvPr/>
          </p:nvSpPr>
          <p:spPr>
            <a:xfrm>
              <a:off x="228600" y="3657600"/>
              <a:ext cx="87631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усть в трапеци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|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равны острые углы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Из вершин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устим высоты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 основани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Прямоугольные треугольни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вны по катету и острому углу. 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, значит, трапеци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равнобедренная.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3200400" y="1523880"/>
              <a:ext cx="2362320" cy="160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2280" y="152280"/>
            <a:ext cx="8686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оронах квадрат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ледовательно отложены равные отрез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четырех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вадра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3657600"/>
            <a:ext cx="876312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четыре прямоугольных треугольника равны по двум катетам. Следовательно, четырех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омб. Кроме того, каждый угол этого четырехугольника равен 18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нус сумма острых углов прямоугольного треугольника, т.е. равен 9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ледовательно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вадра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793960" y="1521000"/>
            <a:ext cx="20955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2280" y="152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, что середины сторон четырехугольника являются верши­нами параллелограмм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2427120" cy="178272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228600" y="1295280"/>
            <a:ext cx="8763120" cy="5016600"/>
            <a:chOff x="228600" y="1295280"/>
            <a:chExt cx="8763120" cy="5016600"/>
          </a:xfrm>
        </p:grpSpPr>
        <p:sp>
          <p:nvSpPr>
            <p:cNvPr id="154" name=""/>
            <p:cNvSpPr/>
            <p:nvPr/>
          </p:nvSpPr>
          <p:spPr>
            <a:xfrm>
              <a:off x="228600" y="3657600"/>
              <a:ext cx="87631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усть в четырех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являются серединами сторон соответственно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 EF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средняя линия и, значит, параллель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Аналогично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араллель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F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араллель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H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Аналогично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араллель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H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Таким образом, противоположные стороны четырехугольни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FG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араллельны и, следовательно, он является параллелограммом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2971800" y="1295280"/>
              <a:ext cx="2427120" cy="178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280" y="152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, что диаметр, проведенный через середину хорды той же окружности, отличной от диаметра, перпендикулярен этой хорд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41148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    Пуст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иаметр окружности с центро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ходящий через середин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д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­личной от диаметра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обедренном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медианой и, следовательно, высотой. Значит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пендикулярн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429000" y="1523880"/>
            <a:ext cx="2019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2280" y="152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, что равные хорды окружности равноудалены от центра окруж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2170080" cy="216216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228600" y="1600200"/>
            <a:ext cx="8763120" cy="4803120"/>
            <a:chOff x="228600" y="1600200"/>
            <a:chExt cx="8763120" cy="4803120"/>
          </a:xfrm>
        </p:grpSpPr>
        <p:sp>
          <p:nvSpPr>
            <p:cNvPr id="162" name=""/>
            <p:cNvSpPr/>
            <p:nvPr/>
          </p:nvSpPr>
          <p:spPr>
            <a:xfrm>
              <a:off x="228600" y="4114800"/>
              <a:ext cx="87631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1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равные хорды окружности с центро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E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F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перпендикуляры, опущенные соответственно 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Докажем, что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E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F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Действительно, треугольни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AB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C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равнобедренные и равны по трем сторонам. Следовательно, их соответствующие высоты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E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F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кже равны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3200400" y="1600200"/>
              <a:ext cx="2170080" cy="2162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52280"/>
            <a:ext cx="853416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адлежат одной прямой.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жат по разные стороны от этой прямой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, что если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, то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же рав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038480"/>
            <a:ext cx="86104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равенства треугольни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едует равенство соответствующих сторон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также равенство соответствующих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з равенства указанных углов следует равенство смежных с ними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перв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2860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2280" y="1522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окружности касаются внутренним образом, причем меньшая окружность проходит через центр большей. Докажите, что всякая хорда большей окружности, проходящая через точку касания, делится меньшей окружностью попола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76720" y="1981080"/>
            <a:ext cx="2276280" cy="208944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228600" y="1981080"/>
            <a:ext cx="8763120" cy="4422240"/>
            <a:chOff x="228600" y="1981080"/>
            <a:chExt cx="8763120" cy="4422240"/>
          </a:xfrm>
        </p:grpSpPr>
        <p:sp>
          <p:nvSpPr>
            <p:cNvPr id="167" name=""/>
            <p:cNvSpPr/>
            <p:nvPr/>
          </p:nvSpPr>
          <p:spPr>
            <a:xfrm>
              <a:off x="228600" y="4114800"/>
              <a:ext cx="87631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1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усть две окружности касаются внутренним образом, причем меньшая окружность проходит через центр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льшей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хорда большей окружности, проходящая через точку касания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пересекающая меньшую окружность в точ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Докажем, что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 Проведем диаметр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A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араллель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B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>
              <a:off x="3124080" y="1981080"/>
              <a:ext cx="2427480" cy="208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52280" y="152280"/>
            <a:ext cx="8686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онцов диаметр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ности опущены перпендикуляр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касательную. Докажите, что точка касани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серединой отрез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1998720" cy="202572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228600" y="1828800"/>
            <a:ext cx="8763120" cy="3543120"/>
            <a:chOff x="228600" y="1828800"/>
            <a:chExt cx="8763120" cy="3543120"/>
          </a:xfrm>
        </p:grpSpPr>
        <p:sp>
          <p:nvSpPr>
            <p:cNvPr id="172" name=""/>
            <p:cNvSpPr/>
            <p:nvPr/>
          </p:nvSpPr>
          <p:spPr>
            <a:xfrm>
              <a:off x="228600" y="4114800"/>
              <a:ext cx="876312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1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резо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соединяющий центр окружности и точку касания, перпендикулярен касательной. Следовательно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средняя линия трапеци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значит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3276720" y="1828800"/>
              <a:ext cx="1998720" cy="2023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152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окружности одинакового радиуса попарно касаются друг друга. Докажите, что их центры являются вершинами равностороннего треугольни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4114800"/>
            <a:ext cx="876312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нтры окружностей одинакового радиуса, попарно касающихся друг друга. Так как расстояние между центрами любых двух из этих окружностей равно удвоенному радиусу,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авносторон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22986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52280"/>
            <a:ext cx="853416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адлежат одной прямой.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жат по разные стороны от этой прямой. Докажите, что если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, то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же рав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038480"/>
            <a:ext cx="86104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редыдущей задачи следует, что из равенства треугольни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текает равенство треугольни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ое, в свою очередь, влечет равенство треугольни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22860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522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й стороне правильного 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ледовательно отложены равные отрез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треугольник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же правильны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65760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равенства сторон правильного треугольника и равенства отрез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едует равенство отрез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перв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треугольников. Значит,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же правильны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237348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522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должении каждой стороны правильного 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ледовательно отложены равные отрез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же правильны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35268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равенства сторон правильного 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авенства отрез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едует равенство отрез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з равенства углов правильного 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равенство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перв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треугольников. Значит,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же правильны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22334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304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дана фигура, у котор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= C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A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кажите, что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396252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равенства углов 1 и 2 следует равенство смежных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з равенства отрез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равенство отрез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втор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23191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секаются в точ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C 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9625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равенства углов 1 и 2 следует равенство смежных с ними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втор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их треугольн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256536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5:06:28Z</dcterms:created>
  <dc:creator>*</dc:creator>
  <dc:description/>
  <dc:language>en-US</dc:language>
  <cp:lastModifiedBy>*</cp:lastModifiedBy>
  <dcterms:modified xsi:type="dcterms:W3CDTF">2011-01-25T04:24:53Z</dcterms:modified>
  <cp:revision>17</cp:revision>
  <dc:subject/>
  <dc:title>Презентация PowerPoint</dc:title>
</cp:coreProperties>
</file>