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E40-3477-49B4-863A-633607B8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4C31-9679-4667-92AB-8A1D18FB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29AD-A048-4BF2-86C4-3081263EE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B948-35E5-4355-A4ED-C20C0C32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00FD-54A1-4EB0-A827-B615A8A1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401F-97BC-4A81-8BFD-2AE9415D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62AA-2CD0-4BE2-9590-AD70570B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9BCC-D28E-4131-89DA-EC96ECD6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36FF-822B-4176-BFED-7AA37DC3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1415-9ACD-4117-9549-EA1CE2E2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407C-1907-42A2-A2AF-5529E239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20DC-383D-4871-9BBF-9C86BE4E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940D-D90F-4CBC-8A55-441B28E34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0"/>
            <a:ext cx="8839440" cy="61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задаче на нахождение углов требуется найти градусную величину угла, используя формулу суммы углов треугольника, теорему о внешнем угле треугольника, формулу суммы углов выпуклого многоугольника, теорему об угле, вписанном в окружность, свойства прямоугольного и равнобедренного треугольника, свойства параллелограм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 каждой задаче прилагается рисунок. Решение задачи может включать в себя следующие эта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Перенос данных, указанных в условии задачи, на рисун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Установление формулы или свойства, необходимого для решения задачи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Нахождение неизвестного уг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ответе указывается целое число граду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ый угол на 3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ьше вписанного угла, опирающегося на ту же дугу окружности. Найдите вписанный уго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18828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дусную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у угл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23223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дусную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у угл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3087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дусную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у угл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7400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дусную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у угл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90920" y="1066680"/>
            <a:ext cx="374004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острый угол прямоугольного треугольника на 3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ьше другого. Найдите больший острый уго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2201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 4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нешний угол при вершин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 6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183852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 3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251172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угольни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ен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ысота,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124080" y="2209680"/>
            <a:ext cx="21272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угольни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биссектриса,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ен 5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 2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05320" y="1752480"/>
            <a:ext cx="178416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угол параллелограмма больше другого на 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больший уго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273672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ь параллелограмма образует с двумя его сторонами углы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3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больший угол параллелограмм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00400" y="2362320"/>
            <a:ext cx="273672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стрый вписанный угол, опирающийся на хорду, равную радиусу окруж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581280" y="1905120"/>
            <a:ext cx="18828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5:06:28Z</dcterms:created>
  <dc:creator>*</dc:creator>
  <dc:description/>
  <dc:language>en-US</dc:language>
  <cp:lastModifiedBy>*</cp:lastModifiedBy>
  <dcterms:modified xsi:type="dcterms:W3CDTF">2010-11-17T07:53:57Z</dcterms:modified>
  <cp:revision>41</cp:revision>
  <dc:subject/>
  <dc:title>Презентация PowerPoint</dc:title>
</cp:coreProperties>
</file>