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16FE-4EEB-471B-B93A-75FE9FF3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B9E-473F-4587-8D1F-40302BEC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EFD3-14BE-4907-839E-C45DD7908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7C9-8D6E-423D-AA3B-29D6CDC2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F321-34B8-4B35-B2B9-7FCBA60E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D91-C5D6-4BD7-B05E-07FFEB2A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79F-6F1E-4B72-A7A0-DA908073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76A-488A-4B3A-B229-54085848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CDC1-FFC9-4216-964A-D4B70FB6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ED2-0584-4A63-AFB1-043635E3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766-6941-42E0-A0DE-BA50337F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DD6-9D0F-40BC-A90B-EA408DB6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0072-D0CB-4B56-9266-5FFF56DB8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686800" cy="63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задаче на нахождение площади искомая фигура задается на координатной плоскости. Требуется изобразить эту фигуру и найти ее площадь. При этом используются формулы площадей треугольников, четырехугольников, круга и его ча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 задаче прилагается рисунок координатной плоск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шение этой задачи может включать в себя следующие эта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Изображение фигуры на координатной плоск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Установление формулы или свойства, необходимого для решения зада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Нахождение площади фигу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ответе указывается величина площади, выражаемая целым числом или конечной десятичной дроб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0, 0), (3, 0), (3, 3), (0, 3). 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2819520" cy="268740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685800" y="1676520"/>
            <a:ext cx="4876920" cy="3126600"/>
            <a:chOff x="685800" y="1676520"/>
            <a:chExt cx="4876920" cy="3126600"/>
          </a:xfrm>
        </p:grpSpPr>
        <p:sp>
          <p:nvSpPr>
            <p:cNvPr id="85" name=""/>
            <p:cNvSpPr/>
            <p:nvPr/>
          </p:nvSpPr>
          <p:spPr>
            <a:xfrm>
              <a:off x="68580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9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2743200" y="1676520"/>
              <a:ext cx="2819520" cy="2727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4, 1), (4, 3), (1, 3), (1, 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2819520" cy="268740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685800" y="1676520"/>
            <a:ext cx="4876920" cy="3126600"/>
            <a:chOff x="685800" y="1676520"/>
            <a:chExt cx="4876920" cy="3126600"/>
          </a:xfrm>
        </p:grpSpPr>
        <p:sp>
          <p:nvSpPr>
            <p:cNvPr id="90" name=""/>
            <p:cNvSpPr/>
            <p:nvPr/>
          </p:nvSpPr>
          <p:spPr>
            <a:xfrm>
              <a:off x="68580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2743200" y="1676520"/>
              <a:ext cx="2819520" cy="27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3, 0), (0, 2), (-3, 0), (0, -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685800" y="1523880"/>
            <a:ext cx="5029200" cy="3279240"/>
            <a:chOff x="685800" y="1523880"/>
            <a:chExt cx="5029200" cy="3279240"/>
          </a:xfrm>
        </p:grpSpPr>
        <p:sp>
          <p:nvSpPr>
            <p:cNvPr id="95" name=""/>
            <p:cNvSpPr/>
            <p:nvPr/>
          </p:nvSpPr>
          <p:spPr>
            <a:xfrm>
              <a:off x="68580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2819520" y="1523880"/>
              <a:ext cx="2895480" cy="280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0, 0), (2, 0), (3, 3), (1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685800" y="1523880"/>
            <a:ext cx="5029200" cy="3279240"/>
            <a:chOff x="685800" y="1523880"/>
            <a:chExt cx="5029200" cy="3279240"/>
          </a:xfrm>
        </p:grpSpPr>
        <p:sp>
          <p:nvSpPr>
            <p:cNvPr id="100" name=""/>
            <p:cNvSpPr/>
            <p:nvPr/>
          </p:nvSpPr>
          <p:spPr>
            <a:xfrm>
              <a:off x="68580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2819520" y="1523880"/>
              <a:ext cx="2895480" cy="280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3, -1), (3, 2), (-1, 4), (-1, 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685800" y="1523880"/>
            <a:ext cx="5029200" cy="3279240"/>
            <a:chOff x="685800" y="1523880"/>
            <a:chExt cx="5029200" cy="3279240"/>
          </a:xfrm>
        </p:grpSpPr>
        <p:sp>
          <p:nvSpPr>
            <p:cNvPr id="105" name=""/>
            <p:cNvSpPr/>
            <p:nvPr/>
          </p:nvSpPr>
          <p:spPr>
            <a:xfrm>
              <a:off x="68580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2819520" y="1523880"/>
              <a:ext cx="2895480" cy="280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0, 1), (-2, 3), (-3, 2), (-1, 0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685800" y="1523880"/>
            <a:ext cx="5029200" cy="3279240"/>
            <a:chOff x="685800" y="1523880"/>
            <a:chExt cx="5029200" cy="3279240"/>
          </a:xfrm>
        </p:grpSpPr>
        <p:sp>
          <p:nvSpPr>
            <p:cNvPr id="110" name=""/>
            <p:cNvSpPr/>
            <p:nvPr/>
          </p:nvSpPr>
          <p:spPr>
            <a:xfrm>
              <a:off x="68580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2819520" y="1523880"/>
              <a:ext cx="2895480" cy="280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0, 0), (3, 1), (4, 4), (1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685800" y="1523880"/>
            <a:ext cx="5029200" cy="3279240"/>
            <a:chOff x="685800" y="1523880"/>
            <a:chExt cx="5029200" cy="3279240"/>
          </a:xfrm>
        </p:grpSpPr>
        <p:sp>
          <p:nvSpPr>
            <p:cNvPr id="115" name=""/>
            <p:cNvSpPr/>
            <p:nvPr/>
          </p:nvSpPr>
          <p:spPr>
            <a:xfrm>
              <a:off x="68580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2819520" y="1523880"/>
              <a:ext cx="2895480" cy="280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4, 1), (2, 3), (-1, 1), (1, -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685800" y="1523880"/>
            <a:ext cx="5029200" cy="3279240"/>
            <a:chOff x="685800" y="1523880"/>
            <a:chExt cx="5029200" cy="3279240"/>
          </a:xfrm>
        </p:grpSpPr>
        <p:sp>
          <p:nvSpPr>
            <p:cNvPr id="120" name=""/>
            <p:cNvSpPr/>
            <p:nvPr/>
          </p:nvSpPr>
          <p:spPr>
            <a:xfrm>
              <a:off x="68580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2819520" y="1523880"/>
              <a:ext cx="2895480" cy="280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0, 0), (4, 0), (3, 2), (1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685800" y="1523880"/>
            <a:ext cx="5029200" cy="3279240"/>
            <a:chOff x="685800" y="1523880"/>
            <a:chExt cx="5029200" cy="3279240"/>
          </a:xfrm>
        </p:grpSpPr>
        <p:sp>
          <p:nvSpPr>
            <p:cNvPr id="125" name=""/>
            <p:cNvSpPr/>
            <p:nvPr/>
          </p:nvSpPr>
          <p:spPr>
            <a:xfrm>
              <a:off x="68580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,5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2819520" y="1523880"/>
              <a:ext cx="2895480" cy="280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-1, 0), (3, 0), (3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2743200" cy="26143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85800" y="1905120"/>
            <a:ext cx="4876920" cy="2898000"/>
            <a:chOff x="685800" y="1905120"/>
            <a:chExt cx="4876920" cy="2898000"/>
          </a:xfrm>
        </p:grpSpPr>
        <p:sp>
          <p:nvSpPr>
            <p:cNvPr id="45" name=""/>
            <p:cNvSpPr/>
            <p:nvPr/>
          </p:nvSpPr>
          <p:spPr>
            <a:xfrm>
              <a:off x="68580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2819520" y="1905120"/>
              <a:ext cx="2743200" cy="2614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0, -2), (3, 3), (0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2819160" cy="268776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685800" y="1752480"/>
            <a:ext cx="4952880" cy="3736440"/>
            <a:chOff x="685800" y="1752480"/>
            <a:chExt cx="4952880" cy="3736440"/>
          </a:xfrm>
        </p:grpSpPr>
        <p:sp>
          <p:nvSpPr>
            <p:cNvPr id="50" name=""/>
            <p:cNvSpPr/>
            <p:nvPr/>
          </p:nvSpPr>
          <p:spPr>
            <a:xfrm>
              <a:off x="685800" y="50292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,5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2819520" y="1752480"/>
              <a:ext cx="2819160" cy="268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-1, 0), (3, 0), (1, 4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2743200" cy="26143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685800" y="1905120"/>
            <a:ext cx="4876920" cy="3583800"/>
            <a:chOff x="685800" y="1905120"/>
            <a:chExt cx="4876920" cy="3583800"/>
          </a:xfrm>
        </p:grpSpPr>
        <p:sp>
          <p:nvSpPr>
            <p:cNvPr id="55" name=""/>
            <p:cNvSpPr/>
            <p:nvPr/>
          </p:nvSpPr>
          <p:spPr>
            <a:xfrm>
              <a:off x="685800" y="50292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819520" y="1905120"/>
              <a:ext cx="2743200" cy="2614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0, -2), (4, 0), (0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685800" y="1752480"/>
            <a:ext cx="4952880" cy="3736440"/>
            <a:chOff x="685800" y="1752480"/>
            <a:chExt cx="4952880" cy="3736440"/>
          </a:xfrm>
        </p:grpSpPr>
        <p:sp>
          <p:nvSpPr>
            <p:cNvPr id="60" name=""/>
            <p:cNvSpPr/>
            <p:nvPr/>
          </p:nvSpPr>
          <p:spPr>
            <a:xfrm>
              <a:off x="685800" y="50292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743200" y="1752480"/>
              <a:ext cx="2895480" cy="275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2, -2), (2, 2), (-2, 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685800" y="1752480"/>
            <a:ext cx="4952880" cy="3736440"/>
            <a:chOff x="685800" y="1752480"/>
            <a:chExt cx="4952880" cy="3736440"/>
          </a:xfrm>
        </p:grpSpPr>
        <p:sp>
          <p:nvSpPr>
            <p:cNvPr id="65" name=""/>
            <p:cNvSpPr/>
            <p:nvPr/>
          </p:nvSpPr>
          <p:spPr>
            <a:xfrm>
              <a:off x="685800" y="50292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2743200" y="1752480"/>
              <a:ext cx="2895480" cy="2760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0, 0), (2, 2), (-2, 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685800" y="1752480"/>
            <a:ext cx="4952880" cy="3736440"/>
            <a:chOff x="685800" y="1752480"/>
            <a:chExt cx="4952880" cy="3736440"/>
          </a:xfrm>
        </p:grpSpPr>
        <p:sp>
          <p:nvSpPr>
            <p:cNvPr id="70" name=""/>
            <p:cNvSpPr/>
            <p:nvPr/>
          </p:nvSpPr>
          <p:spPr>
            <a:xfrm>
              <a:off x="685800" y="50292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2743200" y="1752480"/>
              <a:ext cx="2895480" cy="280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0, 0), (-2, -2), (4, -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685800" y="1752480"/>
            <a:ext cx="4952880" cy="3736440"/>
            <a:chOff x="685800" y="1752480"/>
            <a:chExt cx="4952880" cy="3736440"/>
          </a:xfrm>
        </p:grpSpPr>
        <p:sp>
          <p:nvSpPr>
            <p:cNvPr id="75" name=""/>
            <p:cNvSpPr/>
            <p:nvPr/>
          </p:nvSpPr>
          <p:spPr>
            <a:xfrm>
              <a:off x="685800" y="50292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2743200" y="1752480"/>
              <a:ext cx="2895480" cy="280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3, 0), (0, 2), (-3, -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685800" y="1752480"/>
            <a:ext cx="4952880" cy="3736440"/>
            <a:chOff x="685800" y="1752480"/>
            <a:chExt cx="4952880" cy="3736440"/>
          </a:xfrm>
        </p:grpSpPr>
        <p:sp>
          <p:nvSpPr>
            <p:cNvPr id="80" name=""/>
            <p:cNvSpPr/>
            <p:nvPr/>
          </p:nvSpPr>
          <p:spPr>
            <a:xfrm>
              <a:off x="685800" y="50292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,5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2743200" y="1752480"/>
              <a:ext cx="2895480" cy="280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0-11-17T04:00:04Z</dcterms:modified>
  <cp:revision>39</cp:revision>
  <dc:subject/>
  <dc:title>Презентация PowerPoint</dc:title>
</cp:coreProperties>
</file>