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B58-5267-4EBE-B84A-2021FA02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7FE-1D60-4F8D-B34E-509E2DCE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260-D4D1-480E-A28D-6276E242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946-08E0-4EC7-B7EA-E3CFD429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097-5B19-4C93-94EC-19ED5B5A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AB22-5C5F-4A4E-9B37-4D9450AB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F58-E29B-4129-AAD8-11EE10CC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DF6-5E3A-44EC-9807-51DAD212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19E-6BE5-4A9D-A59A-DF5F9F5B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E2D3-650F-4022-B8AE-45B43F15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F98-1E25-4056-9123-34B7BF34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A7B-B73D-4B9A-85C6-D68E69BB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2C62-4890-4D39-BEC5-F34395320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окажите, чт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9625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овательно, равны их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85444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окажите, чт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9625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овательно, равны их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261936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дана фигура, у котор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= C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A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кажите, что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96252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углов 1 и 2 следует равенство смежных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 равенства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равенство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319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ются в точ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 = О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 равенство треугольни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3434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B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53368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ются в точ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 = О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 равенство треугольни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3434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29178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ются в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C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9625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углов 1 и 2 следует равенство смежных с ними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56536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иагонал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уют со сторон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е углы. Докажите, чт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343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равны соответствующи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533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53416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.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уют со сторонами соответственн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е углы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352680"/>
            <a:ext cx="8610480" cy="39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треугольник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соответствующих сторо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соответствующих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 Из равенства треугольник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соответствующих сторо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ледовательно, имеет место равенство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24332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8862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как вертикальные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19018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01-10T06:18:46Z</dcterms:modified>
  <cp:revision>13</cp:revision>
  <dc:subject/>
  <dc:title>Презентация PowerPoint</dc:title>
</cp:coreProperties>
</file>