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EA6E-A2B6-41AB-A517-F9122D164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56A-C4A8-4F26-B849-8BE66A85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CFD-DE4E-49C9-B417-74F724134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0DE6-E603-4C0C-9385-7FADC041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1EA-6E3A-4A88-9D46-3914159A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204-38A7-4560-98BF-00241A51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C4B-FD58-4F6D-A8E7-AAD3F223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7BF-C22C-4AD8-9189-907A6128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B5F-9565-4640-8CDA-F66D78DF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9F8-8A8F-4EA4-95A2-171C4AB6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18E-98E1-4D4E-B966-134E2EDC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67B-F753-4D30-B46C-5F82E353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FD52-261A-49D5-8AD4-7022C6169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990720"/>
            <a:ext cx="8534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565360" cy="122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342900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838080"/>
            <a:ext cx="8534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8098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1325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838080"/>
            <a:ext cx="8534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38098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325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838080"/>
            <a:ext cx="8534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8098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32552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838080"/>
            <a:ext cx="8534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Е = 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88620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133668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838080"/>
            <a:ext cx="853416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внобедренный треугольник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Докажите, что равны его биссектрис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038480"/>
            <a:ext cx="8534160" cy="18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A</a:t>
            </a:r>
            <a:r>
              <a:rPr b="0" lang="ru-RU" sz="24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AB</a:t>
            </a:r>
            <a:r>
              <a:rPr b="0" lang="ru-RU" sz="24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133668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838080"/>
            <a:ext cx="853416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внобедренный треугольник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Докажите, что равны его медиа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886200"/>
            <a:ext cx="8534160" cy="18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A</a:t>
            </a:r>
            <a:r>
              <a:rPr b="0" lang="ru-RU" sz="24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AB</a:t>
            </a:r>
            <a:r>
              <a:rPr b="0" lang="ru-RU" sz="24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13366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838080"/>
            <a:ext cx="8534160" cy="43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 Докажите, что равны их биссектрис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9880"/>
            <a:ext cx="8534160" cy="18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361332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838080"/>
            <a:ext cx="8534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й стороне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стороны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038480"/>
            <a:ext cx="8534160" cy="181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1508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838080"/>
            <a:ext cx="8534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должении каждой стороны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стороны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65760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142236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838080"/>
            <a:ext cx="85341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й стороне квадра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0384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E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F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1368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838080"/>
            <a:ext cx="85341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565360" cy="1222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327672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D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838080"/>
            <a:ext cx="85341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должении каждой стороны квадра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41972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FG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G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1368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85341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авильный пятиугольник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стороны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41972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1390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838080"/>
            <a:ext cx="85341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шестиугольник, у которого противоположные стороны равны и противоположные углы равны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стороны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4956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172080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09480"/>
            <a:ext cx="85341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565360" cy="122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42900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838080"/>
            <a:ext cx="8534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D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8098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19782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838080"/>
            <a:ext cx="8534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O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8098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O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19782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838080"/>
            <a:ext cx="8534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8098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19782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838080"/>
            <a:ext cx="8534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углы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8098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314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38080"/>
            <a:ext cx="8534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8098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314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838080"/>
            <a:ext cx="8534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полнив пропуски в текст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____________ и ________________ равны по _____ –  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5341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му признаку равенства треугольников. Следовательно, равны их соответству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ро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314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1-01-25T04:20:47Z</dcterms:modified>
  <cp:revision>16</cp:revision>
  <dc:subject/>
  <dc:title>Презентация PowerPoint</dc:title>
</cp:coreProperties>
</file>