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FB1-56F4-4E26-97CC-255613CC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4301-52B2-48EE-82D3-EE9AED15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F823-21F7-46C5-8D5A-59EC046F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C02-3440-4790-8E28-860E50A3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18C-6A9A-4625-8AC9-D58BAD2E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F48-6DD1-446D-8A27-D9E48136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988-3778-49C7-B6D6-6DA69899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CBD-BDDA-49A7-AEF2-9C0364AD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AF4-0773-4A64-93A4-DCBBD342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32E-9D69-42D9-87C7-DCEDC44C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AC3A-981C-4DAF-B62F-82541ABE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9E0-1AE0-453C-9F0E-137DAB86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2A57-5AF3-40DE-9922-2BA81144D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прошел от дома по направлению на восток 800 м. Затем повернул на север и прошел 600 м. Под каким углом к направлению на запад он должен идти, чтобы вернуться домой? В ответе укажите целое число градусов. (Используйте таблицу тригонометрических функций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2630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228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ая лестница выдвинута на 50 м при предельном угле подъема 7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пользуя таблицу значений тригонометрических функций, найдите высоту, которой достиг верхний конец лестницы, если ее нижний конец отстоит от поверхности земли на 1 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8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123984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 таблицу тригонометрических функций, найдите приближенное значение угла, под которым виден столб высотой 3 м, находящийся от наблюдателя на расстоянии 100 м. В ответе укажите целое число граду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37195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графный столб высотой 10 м находится на берегу реки. Верхний конец столба виден с другого берега под углом 2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горизонту. Используя таблицу тригонометрических функций, найдите ширину ре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7,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38163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высоты 30 м бросает тень длиной 45 м. Используя таблицу тригонометрических функций, найдите угол наклона солнечных лучей. В ответе укажите приближенное значение, выражаемое целым числом граду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43200" y="2286000"/>
            <a:ext cx="274320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соте солнца в 2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одская труба бросает тень длиной 76 м. Используя таблицу тригонометрических функций, найдите высоту трубы. В ответе укажите приближенное значение, выражаемое целым числом метр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25146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таблицу тригонометрических функций, найдите угол наклона солнечных лучей, если длина тени стоящего человека в два раза меньше его роста. В ответе укажите приближенное значение, выражаемое целым числом граду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149724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тница имеет ступеньки, ширина которых равна 30 см, а высота – 18 см. Используя таблицу тригонометрических функций, найдите угол подъема лестницы. В ответе укажите приближенное значение, выражаемое целым числом граду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09888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подъема лестницы дачного домика равен 5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пользуя таблицу тригонометрических функций, найдите высоту ступенек лестницы, если ширина ступенек равна 20 с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05320" y="1981080"/>
            <a:ext cx="1882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а дачного домика равна 6 м, ширина одного ската его двускатной крыши равна 5 м. Используя таблицу тригонометрических функций, найдите угол между стропилами крыши и потол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141156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балки, на которую опираются стропила крыши, равна 20 м. Используя таблицу тригонометрических функций, найдите высоту крыши, зная, что стропила с этой балкой образуют угол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25225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прошла от дома по направлению на запад 500 м. Затем повернула на север и прошла 300 м. После этого она повернула на восток и прошла еще 100 м. Под каким углом к направлению на восток она должна идти, чтобы вернуться домой? В ответе укажите целое число градусов. (Используйте таблицу тригонометрических функций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50164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которой точки вершина горы видна под углом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приближении к горе на 1000 м вершина стала видна под углом 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риближенную высоту горы. В ответе укажите целое число метр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38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38797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данные, указанные на рисунке, найдите расстояние от корабл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берег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ответе укажите целое число метр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76720" y="1981080"/>
            <a:ext cx="24588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228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амолета радируют капитану рыболовецкого судна, что самолет находится над косяком рыбы на высоте 1000 м. С судна определяют, что угол, под которым виден самолет над горизонтом, равен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пользуя таблицу значений тригонометрических функций, найдите расстояние от судна до косяка рыбы. В ответе укажите приближенное значение, равное целому числу 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0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537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228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ет приближается к аэропорт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ысоте 8000 м. Пилот имеет предписание производить снижение для посадки под постоянным углом в 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пользуя таблицу тригонометрических функций, найдите расстоя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осадочной полосы до того места, над которым самолет должен начать снижение. В ответе укажите приближенное значение, равное целому числу метр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34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760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349560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228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от наблюдателя до башни главного здания МГУ имени М.В. Ломоносова равно 150 м, а угол, под которым видно здание, равен 5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пользуя таблицу значений тригонометрических функций, найдите высоту башни. В ответе укажите приближенное значение, равное целому числу 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347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башни главного здания МГУ имени М.В. Ломоносова равна 240 м. Под каким углом видна эта башня с расстояния 200 м? В ответе укажите приближенное значение, равное целому числу граду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057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ня главного здания МГУ имени М.В. Ломоносова, высота которой равна 240 м, видна под углом 4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расстояние от наблюдателя до башни. В ответе укажите приближенное значение, равное целому числу метр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7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28600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2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а радиомачты видна с расстояния 300 м от ее основания под углом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пользуя таблицу значений тригонометрических функций, найдите высоту радиомачт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290844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Останкинской телевизионной башни – 540 м. Используя таблицу тригонометрических функций, найдите угол в градусах, под которым видна башня с расстояния 2000 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4798800" cy="15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Останкинской телевизионной башни равна 540 м. Под каким углом видна эта башня с расстояния 300 м? В ответе укажите приближенное значение, равное целому числу граду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86200" y="2133720"/>
            <a:ext cx="1424160" cy="17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бник, войдя в лес, в течение двух часов шел в направлении на север, а затем с той же скоростью в течение полутора часов – на восток. Под каким углом к направлению на юг он должен идти, чтобы вернуться к месту, где он вошел в лес? В ответе укажите целое число градусов. (Используйте таблицу тригонометрических функций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11113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Останкинской телевизионной башни – 540 м. Используя таблицу тригонометрических функций, найдите расстояние от нее до человека, который видит башню под углом 3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ответе укажите целое число метр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86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7432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228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высоты колонны поступили следующим образом: отошли от ее основания на 100 м, поставили угломерный прибор высотой 1,6 м и установили, что вершина колонны видна под углом 22. Используя таблицу тригонометрических функций, найдите высоту колон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1,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30574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228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данные, приведенные на рисунке, найдите шир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3,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20415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ятник в виде груза, подвешенного на нитке, отклонили от положения равновесия на угол 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и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ятника 20 см. На сколько изменилась высота груза по сравнению с положением равновесия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171468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228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ятник в виде груза, подвешенного на нитке, отклонили от положения равновесия на угол 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ли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ятника 20 см. Используя таблицу тригонометрических функций, найдите расстоя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груз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ящей через начальное положение маятн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7,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18604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ят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иной 50 см отклонили от положения равновесия на расстоя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ое 12 см. Используя таблицу тригонометрических функций, найдите угол, который образует новое положе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ятника с положением равновес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2057400"/>
            <a:ext cx="88740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228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ная железная дорога поднимается на 1 м на каждые 30 м пути. Используя таблицу тригонометрических функций, найдите угол подъема в градусах. В ответе укажите приближенное значение, выражаемое целым числом граду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62320" y="2743200"/>
            <a:ext cx="371952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228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, пройдя вверх по склону холма 1000 м, поднялся на 90 м над плоскостью основания холма. Используя таблицу тригонометрических функций, найдите (в среднем) угол наклона холма в градусах. В ответе укажите приближенное значение, выражаемое целым числом граду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381636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подъема дороги равен 1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пользуя таблицу тригонометрических функций, найдите высоту, на которую поднимется пешеход, пройдя 200 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28958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2-22T08:40:45Z</dcterms:modified>
  <cp:revision>19</cp:revision>
  <dc:subject/>
  <dc:title>Презентация PowerPoint</dc:title>
</cp:coreProperties>
</file>