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23.png" ContentType="image/png"/>
  <Override PartName="/ppt/media/image5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7BE-E598-4CD6-8485-3B3C92FF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F2B-8D08-4399-9732-F6A9D863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220-2E8F-4AE5-8689-C856606B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AFE-9887-4BA0-985B-A6474070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92A-6866-44EA-BC02-91E238EC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1F0-CE63-44B6-8695-31FDB522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7CE-9916-4A88-B04D-524BF0A6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6EE-1E14-4BB9-89D9-7C9CBD0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F1E-3276-4709-B182-D417CE5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466-029D-4F05-8685-4DA66072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12A-7483-4266-B15D-AD77CDA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991-CB8C-49A6-A27C-A01E1E8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DD3-4A34-43B7-9B7D-7F7F4320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233440" cy="215244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3962520"/>
            <a:ext cx="8610480" cy="1557000"/>
            <a:chOff x="304920" y="3962520"/>
            <a:chExt cx="8610480" cy="1557000"/>
          </a:xfrm>
        </p:grpSpPr>
        <p:sp>
          <p:nvSpPr>
            <p:cNvPr id="44" name=""/>
            <p:cNvSpPr/>
            <p:nvPr/>
          </p:nvSpPr>
          <p:spPr>
            <a:xfrm>
              <a:off x="304920" y="3962520"/>
              <a:ext cx="8610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как против большей стороны треугольника лежит больший угол, то из неравенств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ледует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, что угол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меньш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Значит, для соответствующих смежных углов выполняется неравенств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5" name=""/>
            <p:cNvGraphicFramePr/>
            <p:nvPr/>
          </p:nvGraphicFramePr>
          <p:xfrm>
            <a:off x="4648320" y="5181480"/>
            <a:ext cx="266760" cy="25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64832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5410080" y="5181480"/>
            <a:ext cx="2667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436840" cy="221472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28600" y="3657600"/>
            <a:ext cx="8763120" cy="2654280"/>
            <a:chOff x="228600" y="3657600"/>
            <a:chExt cx="8763120" cy="2654280"/>
          </a:xfrm>
        </p:grpSpPr>
        <p:sp>
          <p:nvSpPr>
            <p:cNvPr id="103" name=""/>
            <p:cNvSpPr/>
            <p:nvPr/>
          </p:nvSpPr>
          <p:spPr>
            <a:xfrm>
              <a:off x="228600" y="36576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четырех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м диагональ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 по третьему признаку равенства треугольников. 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углу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углу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Значит, из неравенств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ледует неравенств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 как против большего угла треугольника лежит большая сторона, то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полняется неравенств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6248520" y="487692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7162920" y="487692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629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2057400" y="5257800"/>
            <a:ext cx="266760" cy="25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52578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3352680" y="5257800"/>
            <a:ext cx="266760" cy="254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52680" y="52578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657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отив большей стороны треугольника лежит больший угол, то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3194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отив большего угла треугольника лежит большая сторона, то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не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2319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отив большей стороны треугольника лежит больший угол, то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как вертикальные.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2129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как вертикальные.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против большего угла треугольника лежит большая сторона, то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не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22129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 = 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уг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138400" cy="20685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28600" y="3657600"/>
            <a:ext cx="8763120" cy="1557000"/>
            <a:chOff x="228600" y="3657600"/>
            <a:chExt cx="8763120" cy="1557000"/>
          </a:xfrm>
        </p:grpSpPr>
        <p:sp>
          <p:nvSpPr>
            <p:cNvPr id="127" name=""/>
            <p:cNvSpPr/>
            <p:nvPr/>
          </p:nvSpPr>
          <p:spPr>
            <a:xfrm>
              <a:off x="228600" y="3657600"/>
              <a:ext cx="876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бедренный и, 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углу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как внешний угол треугольника равен сумме двух внутренних, не смежных с ним углов, то из равенства угл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равенств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следует неравенств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3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" name=""/>
            <p:cNvGraphicFramePr/>
            <p:nvPr/>
          </p:nvGraphicFramePr>
          <p:xfrm>
            <a:off x="3657600" y="487692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5760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" name=""/>
            <p:cNvGraphicFramePr/>
            <p:nvPr/>
          </p:nvGraphicFramePr>
          <p:xfrm>
            <a:off x="4419720" y="487692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7620120" y="4876920"/>
            <a:ext cx="266760" cy="253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"/>
            <p:cNvGraphicFramePr/>
            <p:nvPr/>
          </p:nvGraphicFramePr>
          <p:xfrm>
            <a:off x="8381880" y="4876920"/>
            <a:ext cx="266760" cy="253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38188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 = 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угла 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138400" cy="20685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228600" y="3657600"/>
            <a:ext cx="8763120" cy="1557000"/>
            <a:chOff x="228600" y="3657600"/>
            <a:chExt cx="8763120" cy="1557000"/>
          </a:xfrm>
        </p:grpSpPr>
        <p:sp>
          <p:nvSpPr>
            <p:cNvPr id="139" name=""/>
            <p:cNvSpPr/>
            <p:nvPr/>
          </p:nvSpPr>
          <p:spPr>
            <a:xfrm>
              <a:off x="228600" y="3657600"/>
              <a:ext cx="87631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реугольни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бедренный и, следовательно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угол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вен углу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 как внешний угол треугольника равен сумме двух внутренних, не смежных с ним углов, то из равенства угл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равенств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следует неравенство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3657600" y="487692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65760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4419720" y="487692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197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7620120" y="4876920"/>
            <a:ext cx="266760" cy="253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8381880" y="4876920"/>
            <a:ext cx="266760" cy="253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38188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каждая сторона треугольника меньше его полуперимет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льзуемся тем, что каждая сторона треугольника меньше суммы двух других сторон.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м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бавляя к обеим частям этого неравенств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2212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не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высота, то уг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25653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228600" y="3657600"/>
            <a:ext cx="8763120" cy="2478960"/>
            <a:chOff x="228600" y="3657600"/>
            <a:chExt cx="8763120" cy="2478960"/>
          </a:xfrm>
        </p:grpSpPr>
        <p:sp>
          <p:nvSpPr>
            <p:cNvPr id="154" name=""/>
            <p:cNvSpPr/>
            <p:nvPr/>
          </p:nvSpPr>
          <p:spPr>
            <a:xfrm>
              <a:off x="228600" y="3657600"/>
              <a:ext cx="87631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еравенств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для наклонных следует неравенств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для их проекций. На отрез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тложим отрезок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D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равный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C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 по двум катетам, следовательно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CD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H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6248520" y="487692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24852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7467480" y="487692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467480" y="48769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762120" y="5257800"/>
            <a:ext cx="266760" cy="25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120" y="52578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из двух высот треугольника больше та, которая опущена на меньшую сторон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19520" y="1143000"/>
            <a:ext cx="2415960" cy="21207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228600" y="3657600"/>
            <a:ext cx="8763120" cy="2976480"/>
            <a:chOff x="228600" y="3657600"/>
            <a:chExt cx="8763120" cy="297648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8763120" cy="29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усть в треугольни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высоты. Воспользуемся тем, что площадь треугольника равна половине произведения стороны на высоту, опущенную на эту сторону. Получим равенст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.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этого равенства и неравенств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следуе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авенств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4191120" y="4724280"/>
            <a:ext cx="2851200" cy="7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191120" y="4724280"/>
                      <a:ext cx="2851200" cy="7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жите, что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1143000"/>
            <a:ext cx="2233440" cy="2151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28600" y="3809880"/>
            <a:ext cx="8839080" cy="1191240"/>
            <a:chOff x="228600" y="3809880"/>
            <a:chExt cx="8839080" cy="1191240"/>
          </a:xfrm>
        </p:grpSpPr>
        <p:sp>
          <p:nvSpPr>
            <p:cNvPr id="52" name=""/>
            <p:cNvSpPr/>
            <p:nvPr/>
          </p:nvSpPr>
          <p:spPr>
            <a:xfrm>
              <a:off x="228600" y="380988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 неравенства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&g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следует неравенство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 как против большего угла треугольника лежит большая сторона, то выполняется неравенство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g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3809880" y="3886200"/>
            <a:ext cx="266760" cy="25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9880" y="38862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" name=""/>
            <p:cNvGraphicFramePr/>
            <p:nvPr/>
          </p:nvGraphicFramePr>
          <p:xfrm>
            <a:off x="4648320" y="3886200"/>
            <a:ext cx="2667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648320" y="38862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7924680" y="3886200"/>
            <a:ext cx="266760" cy="25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24680" y="388620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" name=""/>
            <p:cNvGraphicFramePr/>
            <p:nvPr/>
          </p:nvGraphicFramePr>
          <p:xfrm>
            <a:off x="685800" y="4267080"/>
            <a:ext cx="266760" cy="254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85800" y="42670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высота треугольника меньше полусуммы сторон, прилежащих к не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657600"/>
            <a:ext cx="87631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высота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спользуемся тем, что перпендикуляр короче наклонной, проведенной из той же точки к той же прямой. Тог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ладывая эти два неравенства, получим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255420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медиана треугольника меньше его полуперимет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657600"/>
            <a:ext cx="876312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медиана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спользуемся тем, что каждая сторона треугольника меньше суммы двух других сторон. Тогд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ладывая эти неравенства, полу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542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543040" cy="16444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228600" y="3886200"/>
            <a:ext cx="8610480" cy="1557000"/>
            <a:chOff x="228600" y="3886200"/>
            <a:chExt cx="8610480" cy="1557000"/>
          </a:xfrm>
        </p:grpSpPr>
        <p:sp>
          <p:nvSpPr>
            <p:cNvPr id="64" name=""/>
            <p:cNvSpPr/>
            <p:nvPr/>
          </p:nvSpPr>
          <p:spPr>
            <a:xfrm>
              <a:off x="228600" y="3886200"/>
              <a:ext cx="8610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O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л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O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 как вертикальные. Так как внешний угол треугольника равен сумме двух внутренних, не смежных с ним углов, то из неравенства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следует неравенств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lt;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1981080" y="5105520"/>
            <a:ext cx="266760" cy="253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981080" y="51055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"/>
            <p:cNvGraphicFramePr/>
            <p:nvPr/>
          </p:nvGraphicFramePr>
          <p:xfrm>
            <a:off x="2743200" y="5105520"/>
            <a:ext cx="266760" cy="253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743200" y="51055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"/>
            <p:cNvGraphicFramePr/>
            <p:nvPr/>
          </p:nvGraphicFramePr>
          <p:xfrm>
            <a:off x="6019920" y="5105520"/>
            <a:ext cx="266760" cy="253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019920" y="51055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6934320" y="5105520"/>
            <a:ext cx="266760" cy="253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934320" y="5105520"/>
                      <a:ext cx="266760" cy="25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2543040" cy="164628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304920" y="3962520"/>
            <a:ext cx="8610480" cy="1557000"/>
            <a:chOff x="304920" y="3962520"/>
            <a:chExt cx="8610480" cy="1557000"/>
          </a:xfrm>
        </p:grpSpPr>
        <p:sp>
          <p:nvSpPr>
            <p:cNvPr id="76" name=""/>
            <p:cNvSpPr/>
            <p:nvPr/>
          </p:nvSpPr>
          <p:spPr>
            <a:xfrm>
              <a:off x="304920" y="3962520"/>
              <a:ext cx="8610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шение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O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гл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O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D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ы как вертикальные. Так как внешний угол треугольника равен сумме двух внутренних, не смежных с ним углов, то из неравенства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едует неравенство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7" name=""/>
            <p:cNvGraphicFramePr/>
            <p:nvPr/>
          </p:nvGraphicFramePr>
          <p:xfrm>
            <a:off x="2133720" y="5181480"/>
            <a:ext cx="266760" cy="254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3048120" y="5181480"/>
            <a:ext cx="266760" cy="254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812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" name=""/>
            <p:cNvGraphicFramePr/>
            <p:nvPr/>
          </p:nvGraphicFramePr>
          <p:xfrm>
            <a:off x="6477120" y="5181480"/>
            <a:ext cx="266760" cy="254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47712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"/>
            <p:cNvGraphicFramePr/>
            <p:nvPr/>
          </p:nvGraphicFramePr>
          <p:xfrm>
            <a:off x="7391520" y="5181480"/>
            <a:ext cx="266760" cy="254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7391520" y="5181480"/>
                      <a:ext cx="26676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733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прямую, параллельную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ее точку пересечения с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внутренней точкой  отрез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аллелограмм и,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2446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352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трез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ем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етырех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аллелограмм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4460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иагонал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 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, следовательно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93960" y="1341360"/>
            <a:ext cx="23306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иагонал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угол 1 больше угла 2, то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против большего угла треугольника лежит большая сторона, то в треугольнике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неравенство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233028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6576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иагонал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 как против большей стороны треугольника лежит больший угол, 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 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ьше уг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436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0T12:03:05Z</dcterms:modified>
  <cp:revision>22</cp:revision>
  <dc:subject/>
  <dc:title>Презентация PowerPoint</dc:title>
</cp:coreProperties>
</file>