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4791-771B-4885-9248-5302C7BB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E108-0960-4387-B43B-AAC5A571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1E1-4241-42F4-B94F-9D3EB48C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1E9-B346-46B0-A631-41A01613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94E-F8EE-4C8A-BEBC-FDDC87D4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3D2-AE8F-49B8-9449-01632477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C9C-CBCE-4E6F-B352-39D91036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085-1E85-411A-A4BA-BEE70016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B73-AABF-4D35-ADCC-2E815847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612-BDCC-4D96-A3D8-4647ECB7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95B-45D8-4520-9668-4093D45E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A09-8E39-49FA-A174-066900D1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9555-E205-45F1-95C9-AB5A565ED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9625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диагонал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36760" y="1863720"/>
            <a:ext cx="3259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угол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4796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= C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 = 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C = 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3434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, а, значит, равны и смежные с ними углы 1 и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77812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962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1 и 2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373392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29000" y="1523880"/>
            <a:ext cx="22860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35268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52680" y="1143000"/>
            <a:ext cx="228600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, причем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ат по разные стороны от прям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886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треугольников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соответствующих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28576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ссектриса угл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ссектриса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6576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38760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5228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две стороны и медиана, проведенная к одной из них, одного треугольника соответственно равны двум сторонам и медиане друг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657600"/>
            <a:ext cx="8763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в треугольника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едиа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медиа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0659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10T06:22:16Z</dcterms:modified>
  <cp:revision>14</cp:revision>
  <dc:subject/>
  <dc:title>Презентация PowerPoint</dc:title>
</cp:coreProperties>
</file>