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5381-C5D0-4892-A93F-81FE64EE0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1E16-6A6C-49C0-968F-0E8A0AD15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0776-D0E4-466D-AD95-0CB3AB2AF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9811-C157-4075-858D-98CEEB017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28E9-C38D-47A6-88B6-BCFBEDB67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39C6-1E90-4EC9-A89F-17D7F8BAE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38E0-7CDD-4306-B2BD-8E7B6D78B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604E-91DB-490A-BD70-0C5CDEA87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23D9-82A8-4BE6-B05E-BA88D7EFF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F1FB-1B8C-4B72-8BD0-F4D7E9DBA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894F-3143-4C2D-890C-E45C1E619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1E6E-902E-4291-B668-A401FE025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F9535-DCC1-46C5-B40E-D27D8AD5AF8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30492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рисунке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=АС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Е=А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окажите, что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D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327672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шение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угольник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D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E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ны по первому признаку равенства треугольников (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=АС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угол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ий). Следовательно, равны соответствующие стороны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D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их треугольников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657600" y="914400"/>
            <a:ext cx="1646280" cy="22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04920" y="152280"/>
            <a:ext cx="8534160" cy="17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чк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надлежат одной прямой. Точк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лежат по разные стороны от этой прямой.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ажите, что если треугольник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D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D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вны, то треугольник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D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D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оже равны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4038480"/>
            <a:ext cx="8610480" cy="30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шение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равенства треугольников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D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D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ледует равенство соответствующих сторон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D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D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а также равенство соответствующих углов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D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D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Из равенства указанных углов следует равенство смежных с ними углов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BD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BD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Треугольник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D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D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вны по первому признаку равенства треугольников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D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D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общая сторона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гол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BD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вен углу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BD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200400" y="1828800"/>
            <a:ext cx="228600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04920" y="152280"/>
            <a:ext cx="8534160" cy="17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чк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надлежат одной прямой. Точк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лежат по разные стороны от этой прямой. Докажите, что если треугольник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E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E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вны, то треугольник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E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E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оже равны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4038480"/>
            <a:ext cx="8610480" cy="17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шение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предыдущей задачи следует, что из равенства треугольников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E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E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ытекает равенство треугольников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E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E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которое, в свою очередь, влечет равенство треугольников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E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E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200400" y="1905120"/>
            <a:ext cx="2286000" cy="19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04920" y="152280"/>
            <a:ext cx="853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аждой стороне правильного треугольника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следовательно отложены равные отрезк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F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окажите, что треугольник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оже правильный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8600" y="3657600"/>
            <a:ext cx="86104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шение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равенства сторон правильного треугольника и равенства отрезков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F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ледует равенство отрезков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Треугольник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F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D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FE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ны по первому признаку равенства треугольников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F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D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гол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вен углу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 равен углу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Следовательно, равны соответствующие стороны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F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их треугольников. Значит, треугольник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оже правильный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124080" y="1523880"/>
            <a:ext cx="2373480" cy="21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04920" y="152280"/>
            <a:ext cx="853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родолжении каждой стороны правильного треугольника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следовательно отложены равные отрезк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окажите, что треугольник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оже правильный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8600" y="3352680"/>
            <a:ext cx="8610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шение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равенства сторон правильного треугольника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равенства отрезков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ледует равенство отрезков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F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Из равенства углов правильного треугольника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ует равенство углов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BE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F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угольник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F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D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FE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ны по первому признаку равенства треугольников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F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D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гол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D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вен углу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BE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 равен углу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F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Следовательно, равны соответствующие стороны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F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их треугольников. Значит, треугольник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оже правильный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3429000" y="1295280"/>
            <a:ext cx="223344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04920" y="304920"/>
            <a:ext cx="853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 сторонах  угла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О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отложены равные отрезк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Произвольная точка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иссектрисы этого угла соединена с точкам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окажите, что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 = Е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3434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шение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угольник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E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DE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ны по первому признаку равенства треугольников (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 = O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E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сторона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E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ая). Следовательно, равны соответствующие стороны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их треугольников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276720" y="1828800"/>
            <a:ext cx="2436840" cy="18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304920"/>
            <a:ext cx="853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 сторонах  угла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тмечены точк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, что точка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жит на стороне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а точка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на стороне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ричем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окажите, что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гол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BD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вен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глу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4343400"/>
            <a:ext cx="8610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шение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угольник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D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E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ны по первому признаку равенства треугольников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В=АС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ол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ий). Следовательно, равны соответствующие углы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D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E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Из равенства этих углов следует равенство смежных углов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BD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429000" y="2209680"/>
            <a:ext cx="2373480" cy="16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04920" y="304920"/>
            <a:ext cx="85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рисунке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О = ОВ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O = 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окажите равенство отрезков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43434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шение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угольник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OD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C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ны по первому признаку равенства треугольников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O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O=CO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гол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OD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вен углу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Следовательно, равны соответствующие стороны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их треугольников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895480" y="1752480"/>
            <a:ext cx="2479680" cy="15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04920" y="304920"/>
            <a:ext cx="85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четырехугольнике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 AB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гол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вен углу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окажите, что угол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вен углу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8600" y="43434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шение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угольник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A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ны по первому признаку равенства треугольников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общая сторона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гол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вен углу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Следовательно, равны соответствующие углы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тих треугольников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819520" y="1905120"/>
            <a:ext cx="3259080" cy="14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04920" y="304920"/>
            <a:ext cx="85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четырехугольнике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 AB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гол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вен углу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окажите, что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43434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шение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угольник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A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ны по первому признаку равенства треугольников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общая сторона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гол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вен углу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Следовательно, равны соответствующие стороны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тих треугольников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819520" y="2057400"/>
            <a:ext cx="3259080" cy="14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04920" y="304920"/>
            <a:ext cx="85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рисунке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гол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вен углу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окажите, что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8600" y="43434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шение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угольник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C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ны по первому признаку равенства треугольников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общая сторона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гол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вен углу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Следовательно, равны соответствующие стороны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тих треугольников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124080" y="1828800"/>
            <a:ext cx="2511720" cy="15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04920" y="304920"/>
            <a:ext cx="85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рисунке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окажите, что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гол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вен углу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8600" y="43434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шение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угольник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C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ны по первому признаку равенства треугольников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общая сторона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гол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вен углу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Следовательно, равны соответствующие углы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тих треугольников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895480" y="1752480"/>
            <a:ext cx="2511720" cy="15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04920" y="304920"/>
            <a:ext cx="85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унк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гол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вен угл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 = B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ажите, что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8600" y="43434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шение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угольник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D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ны по первому признаку равенства треугольников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общая сторона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гол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вен углу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Следовательно, равны соответствующие стороны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тих треугольников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276720" y="1905120"/>
            <a:ext cx="234000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4T05:06:28Z</dcterms:created>
  <dc:creator>*</dc:creator>
  <dc:description/>
  <dc:language>en-US</dc:language>
  <cp:lastModifiedBy>*</cp:lastModifiedBy>
  <dcterms:modified xsi:type="dcterms:W3CDTF">2010-01-08T08:36:33Z</dcterms:modified>
  <cp:revision>11</cp:revision>
  <dc:subject/>
  <dc:title>Презентация PowerPoint</dc:title>
</cp:coreProperties>
</file>