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11D7-15F8-4C69-8A59-16DE34F01F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ы появляю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02E-E249-4D60-A2D2-BF67ABA0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5A2-580B-4325-A45A-187999EF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647-35C6-4CD4-B2BD-F777B3D8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A2C-3655-4874-BF1A-BC5B17E4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B67-253A-47BF-9E45-436CF1C9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501-80A2-4268-A85C-FA490396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4896-03F7-4243-A8CC-359D95B4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BACA-ED10-4776-83EE-ABF5BC78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A5F-8F0D-4DFF-AB40-8400269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AE8-AAE4-4E27-B3F0-068E9913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C15-6FEA-4AD1-8AFC-B936E28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E98-7773-4C9D-AB59-AD5C442B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4CA0-66D2-416B-AF44-D7CA6ED9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5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угольника равны, если две стороны и угол одного треугольника соответственно равны двум сторонам и углу другого треугольник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981080"/>
            <a:ext cx="9144000" cy="4608720"/>
            <a:chOff x="0" y="1981080"/>
            <a:chExt cx="9144000" cy="4608720"/>
          </a:xfrm>
        </p:grpSpPr>
        <p:sp>
          <p:nvSpPr>
            <p:cNvPr id="51" name=""/>
            <p:cNvSpPr/>
            <p:nvPr/>
          </p:nvSpPr>
          <p:spPr>
            <a:xfrm>
              <a:off x="0" y="1981080"/>
              <a:ext cx="91440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смотрим окружность и ее хорд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С центром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оведем другую окружность, пересекающую первую окружность в некоторых точ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огда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общая сторона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= С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однако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е равны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124080" y="4038480"/>
              <a:ext cx="2608560" cy="255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0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9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торона и две высоты, опущенные на две другие стороны, одного треугольника соответственно равны стороне и двум высотам другого треугольника, то такие треугольники рав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2362320"/>
            <a:ext cx="9144000" cy="4306680"/>
            <a:chOff x="0" y="2362320"/>
            <a:chExt cx="9144000" cy="4306680"/>
          </a:xfrm>
        </p:grpSpPr>
        <p:sp>
          <p:nvSpPr>
            <p:cNvPr id="176" name=""/>
            <p:cNvSpPr/>
            <p:nvPr/>
          </p:nvSpPr>
          <p:spPr>
            <a:xfrm>
              <a:off x="0" y="2362320"/>
              <a:ext cx="914400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а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G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вны по катету и гипотенузе. Значи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налогично, из равенства треугольник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ледует, чт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аким образом,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Следовательно, эти треугольники равны по стороне и двум прилежащим к ней углам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3809880" y="2666880"/>
            <a:ext cx="470160" cy="47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2666880"/>
                      <a:ext cx="47016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4724280" y="2666880"/>
            <a:ext cx="470160" cy="47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2666880"/>
                      <a:ext cx="47016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5486400" y="3429000"/>
            <a:ext cx="46980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342900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6400800" y="3429000"/>
            <a:ext cx="46980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00800" y="342900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238880" y="3429000"/>
            <a:ext cx="470160" cy="46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38880" y="34290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8229600" y="3429000"/>
            <a:ext cx="469800" cy="46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29600" y="342900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9" name="" descr=""/>
            <p:cNvPicPr/>
            <p:nvPr/>
          </p:nvPicPr>
          <p:blipFill>
            <a:blip r:embed="rId13"/>
            <a:stretch/>
          </p:blipFill>
          <p:spPr>
            <a:xfrm>
              <a:off x="1676520" y="4648320"/>
              <a:ext cx="5486400" cy="2020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6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094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гол, сторона, прилежащая к этому углу, и медиана, проведенная к этой стороне, одного треугольника соответственно равны углу, стороне и медиане другого треугольника, то эти треугольники рав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2971800"/>
            <a:ext cx="8991720" cy="3283560"/>
            <a:chOff x="0" y="2971800"/>
            <a:chExt cx="8991720" cy="3283560"/>
          </a:xfrm>
        </p:grpSpPr>
        <p:sp>
          <p:nvSpPr>
            <p:cNvPr id="193" name=""/>
            <p:cNvSpPr/>
            <p:nvPr/>
          </p:nvSpPr>
          <p:spPr>
            <a:xfrm>
              <a:off x="0" y="2971800"/>
              <a:ext cx="6095880" cy="328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ссмотрим окружность с центром в точке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Проведем два диаметр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Через точ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оведем еще одну окружность и выберем на ней точ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как показано на рисунке.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медиана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щая. Однако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е равны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5334120" y="4724280"/>
            <a:ext cx="469800" cy="47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47242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"/>
            <p:cNvGraphicFramePr/>
            <p:nvPr/>
          </p:nvGraphicFramePr>
          <p:xfrm>
            <a:off x="304920" y="5105520"/>
            <a:ext cx="46980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51055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6248520" y="3124080"/>
              <a:ext cx="2743200" cy="254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угольника равны, если две стороны и высота, опущенная на одну из них, одного треугольника соответственно равны двум сторонам и высоте другого треугольник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2666880"/>
            <a:ext cx="9144000" cy="3949920"/>
            <a:chOff x="0" y="2666880"/>
            <a:chExt cx="9144000" cy="3949920"/>
          </a:xfrm>
        </p:grpSpPr>
        <p:grpSp>
          <p:nvGrpSpPr>
            <p:cNvPr id="56" name=""/>
            <p:cNvGrpSpPr/>
            <p:nvPr/>
          </p:nvGrpSpPr>
          <p:grpSpPr>
            <a:xfrm>
              <a:off x="0" y="2666880"/>
              <a:ext cx="9144000" cy="3949920"/>
              <a:chOff x="0" y="2666880"/>
              <a:chExt cx="9144000" cy="3949920"/>
            </a:xfrm>
          </p:grpSpPr>
          <p:sp>
            <p:nvSpPr>
              <p:cNvPr id="57" name=""/>
              <p:cNvSpPr/>
              <p:nvPr/>
            </p:nvSpPr>
            <p:spPr>
              <a:xfrm>
                <a:off x="0" y="2666880"/>
                <a:ext cx="9144000" cy="21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Ответ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а.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ямоугольные треугольник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H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равны по катету и гипотенузе. Значит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Таким образом, в треугольниках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Следовательно, эти треугольники равны по двум сторонам и углу между ними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4648320"/>
                <a:ext cx="5410080" cy="196848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59" name=""/>
            <p:cNvGraphicFramePr/>
            <p:nvPr/>
          </p:nvGraphicFramePr>
          <p:xfrm>
            <a:off x="4419720" y="3048120"/>
            <a:ext cx="39348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9720" y="3048120"/>
                      <a:ext cx="39348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" name=""/>
            <p:cNvGraphicFramePr/>
            <p:nvPr/>
          </p:nvGraphicFramePr>
          <p:xfrm>
            <a:off x="5486400" y="3048120"/>
            <a:ext cx="393840" cy="393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86400" y="3048120"/>
                      <a:ext cx="3938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" name=""/>
            <p:cNvGraphicFramePr/>
            <p:nvPr/>
          </p:nvGraphicFramePr>
          <p:xfrm>
            <a:off x="7162920" y="3429000"/>
            <a:ext cx="393480" cy="393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162920" y="3429000"/>
                      <a:ext cx="3934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8229600" y="3429000"/>
            <a:ext cx="393840" cy="393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29600" y="3429000"/>
                      <a:ext cx="3938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5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угольника равны, если две стороны и высота, опущенная на третью сторону, одного треугольника соответственно равны двум сторонам и высоте другого треуг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2666880"/>
            <a:ext cx="9144000" cy="3967200"/>
            <a:chOff x="0" y="2666880"/>
            <a:chExt cx="9144000" cy="3967200"/>
          </a:xfrm>
        </p:grpSpPr>
        <p:grpSp>
          <p:nvGrpSpPr>
            <p:cNvPr id="70" name=""/>
            <p:cNvGrpSpPr/>
            <p:nvPr/>
          </p:nvGrpSpPr>
          <p:grpSpPr>
            <a:xfrm>
              <a:off x="0" y="2666880"/>
              <a:ext cx="9144000" cy="3967200"/>
              <a:chOff x="0" y="2666880"/>
              <a:chExt cx="9144000" cy="3967200"/>
            </a:xfrm>
          </p:grpSpPr>
          <p:sp>
            <p:nvSpPr>
              <p:cNvPr id="71" name=""/>
              <p:cNvSpPr/>
              <p:nvPr/>
            </p:nvSpPr>
            <p:spPr>
              <a:xfrm>
                <a:off x="0" y="2666880"/>
                <a:ext cx="9144000" cy="22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Ответ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а.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ямоугольные треугольник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H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равны по катету и гипотенузе. Значит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H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Аналогично, из равенства треугольников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CH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следует, что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CH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Таким образом,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и,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ледовательно,  треугольник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равны по двум сторонам и углу между ними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57400" y="4724280"/>
                <a:ext cx="5257800" cy="190980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73" name=""/>
            <p:cNvGraphicFramePr/>
            <p:nvPr/>
          </p:nvGraphicFramePr>
          <p:xfrm>
            <a:off x="4038480" y="2971800"/>
            <a:ext cx="47016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8480" y="29718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5410080" y="2971800"/>
            <a:ext cx="470160" cy="469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10080" y="29718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7620120" y="3352680"/>
            <a:ext cx="469800" cy="470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20120" y="33526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" name=""/>
            <p:cNvGraphicFramePr/>
            <p:nvPr/>
          </p:nvGraphicFramePr>
          <p:xfrm>
            <a:off x="457200" y="3733920"/>
            <a:ext cx="469800" cy="469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57200" y="37339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" name=""/>
            <p:cNvGraphicFramePr/>
            <p:nvPr/>
          </p:nvGraphicFramePr>
          <p:xfrm>
            <a:off x="4495680" y="3733920"/>
            <a:ext cx="470160" cy="469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495680" y="373392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" name=""/>
            <p:cNvGraphicFramePr/>
            <p:nvPr/>
          </p:nvGraphicFramePr>
          <p:xfrm>
            <a:off x="5638680" y="3733920"/>
            <a:ext cx="470160" cy="469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638680" y="373392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85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гол, сторона, прилежащая к этому углу, и высота, опущенная на эту сторону, одного треугольника соответственно равны углу, стороне и высоте другого треугольника, то эти треугольники рав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0" y="2666880"/>
            <a:ext cx="9144000" cy="4035600"/>
            <a:chOff x="0" y="2666880"/>
            <a:chExt cx="9144000" cy="4035600"/>
          </a:xfrm>
        </p:grpSpPr>
        <p:grpSp>
          <p:nvGrpSpPr>
            <p:cNvPr id="88" name=""/>
            <p:cNvGrpSpPr/>
            <p:nvPr/>
          </p:nvGrpSpPr>
          <p:grpSpPr>
            <a:xfrm>
              <a:off x="0" y="2666880"/>
              <a:ext cx="9144000" cy="4035600"/>
              <a:chOff x="0" y="2666880"/>
              <a:chExt cx="9144000" cy="4035600"/>
            </a:xfrm>
          </p:grpSpPr>
          <p:sp>
            <p:nvSpPr>
              <p:cNvPr id="89" name=""/>
              <p:cNvSpPr/>
              <p:nvPr/>
            </p:nvSpPr>
            <p:spPr>
              <a:xfrm>
                <a:off x="0" y="2666880"/>
                <a:ext cx="9144000" cy="21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Ответ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а.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ямоугольные треугольник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H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равны по катету и острому углу. Значит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C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Таким образом, в треугольниках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С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Следовательно, эти треугольники равны по двум сторонам и углу между ними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4648320"/>
                <a:ext cx="5664240" cy="20541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91" name=""/>
            <p:cNvGraphicFramePr/>
            <p:nvPr/>
          </p:nvGraphicFramePr>
          <p:xfrm>
            <a:off x="7162920" y="3352680"/>
            <a:ext cx="469800" cy="470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162920" y="33526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8229600" y="3352680"/>
            <a:ext cx="469800" cy="470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8229600" y="33526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5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гол, сторона, прилежащая к этому углу, и высота, опущенная на сторону, противоположную данному углу, одного треугольника соответственно равны углу, стороне и высоте другого треугольника, то эти треугольники рав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2971800"/>
            <a:ext cx="9144000" cy="3886200"/>
            <a:chOff x="0" y="2971800"/>
            <a:chExt cx="9144000" cy="3886200"/>
          </a:xfrm>
        </p:grpSpPr>
        <p:grpSp>
          <p:nvGrpSpPr>
            <p:cNvPr id="98" name=""/>
            <p:cNvGrpSpPr/>
            <p:nvPr/>
          </p:nvGrpSpPr>
          <p:grpSpPr>
            <a:xfrm>
              <a:off x="0" y="2971800"/>
              <a:ext cx="9144000" cy="3886200"/>
              <a:chOff x="0" y="2971800"/>
              <a:chExt cx="9144000" cy="3886200"/>
            </a:xfrm>
          </p:grpSpPr>
          <p:sp>
            <p:nvSpPr>
              <p:cNvPr id="99" name=""/>
              <p:cNvSpPr/>
              <p:nvPr/>
            </p:nvSpPr>
            <p:spPr>
              <a:xfrm>
                <a:off x="0" y="2971800"/>
                <a:ext cx="9144000" cy="21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3300"/>
                    </a:solidFill>
                    <a:latin typeface="Times New Roman"/>
                  </a:rPr>
                  <a:t>Ответ.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Да.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рямоугольные треугольник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H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равны по катету и гипотенузе. Значит,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Таким образом, в треугольниках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C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и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B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r>
                  <a:rPr b="0" lang="ru-RU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.  Следовательно, эти треугольники равны по стороне и двум прилежащим к ней углам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23880" y="4836960"/>
                <a:ext cx="5867640" cy="202104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01" name=""/>
            <p:cNvGraphicFramePr/>
            <p:nvPr/>
          </p:nvGraphicFramePr>
          <p:xfrm>
            <a:off x="4267080" y="3276720"/>
            <a:ext cx="470160" cy="469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267080" y="327672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5486400" y="3276720"/>
            <a:ext cx="469800" cy="4698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486400" y="32767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5638680" y="3657600"/>
            <a:ext cx="470160" cy="469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638680" y="36576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6553080" y="3657600"/>
            <a:ext cx="470160" cy="469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553080" y="36576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7315200" y="3657600"/>
            <a:ext cx="469800" cy="469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315200" y="365760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229600" y="3657600"/>
            <a:ext cx="469800" cy="4698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8229600" y="365760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6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858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гол, сторона, противолежащая этому углу, и высота, опущенная на другую сторону, одного треугольника соответственно равны углу, стороне и высоте другого треугольника, то эти треугольники рав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0" y="2743200"/>
            <a:ext cx="9144000" cy="3954600"/>
            <a:chOff x="0" y="2743200"/>
            <a:chExt cx="9144000" cy="3954600"/>
          </a:xfrm>
        </p:grpSpPr>
        <p:sp>
          <p:nvSpPr>
            <p:cNvPr id="116" name=""/>
            <p:cNvSpPr/>
            <p:nvPr/>
          </p:nvSpPr>
          <p:spPr>
            <a:xfrm>
              <a:off x="0" y="2743200"/>
              <a:ext cx="9144000" cy="21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а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вны по катету и гипотенузе. Значит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откуд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аким образом,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Следовательно, эти треугольники равны по стороне и двум прилежащим к ней угла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3809880" y="3048120"/>
            <a:ext cx="47016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304812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4724280" y="3048120"/>
            <a:ext cx="47016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04812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1" name=""/>
            <p:cNvGraphicFramePr/>
            <p:nvPr/>
          </p:nvGraphicFramePr>
          <p:xfrm>
            <a:off x="6400800" y="3048120"/>
            <a:ext cx="46980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00800" y="30481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3" name=""/>
            <p:cNvGraphicFramePr/>
            <p:nvPr/>
          </p:nvGraphicFramePr>
          <p:xfrm>
            <a:off x="7315200" y="3048120"/>
            <a:ext cx="46980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15200" y="30481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5" name=""/>
            <p:cNvGraphicFramePr/>
            <p:nvPr/>
          </p:nvGraphicFramePr>
          <p:xfrm>
            <a:off x="7010280" y="3429000"/>
            <a:ext cx="470160" cy="46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010280" y="34290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" name=""/>
            <p:cNvGraphicFramePr/>
            <p:nvPr/>
          </p:nvGraphicFramePr>
          <p:xfrm>
            <a:off x="8153280" y="3429000"/>
            <a:ext cx="470160" cy="46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153280" y="34290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" name=""/>
            <p:cNvGraphicFramePr/>
            <p:nvPr/>
          </p:nvGraphicFramePr>
          <p:xfrm>
            <a:off x="457200" y="3809880"/>
            <a:ext cx="469800" cy="470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57200" y="38098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1828800" y="3809880"/>
            <a:ext cx="469800" cy="470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828800" y="38098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3" name="" descr=""/>
            <p:cNvPicPr/>
            <p:nvPr/>
          </p:nvPicPr>
          <p:blipFill>
            <a:blip r:embed="rId17"/>
            <a:stretch/>
          </p:blipFill>
          <p:spPr>
            <a:xfrm>
              <a:off x="1752480" y="4572000"/>
              <a:ext cx="6172200" cy="212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094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гол, сторона, прилежащая к этому углу, и высота, опущенная на другую сторону, прилежащую к данному углу, одного треугольника соответственно равны углу, стороне и высоте другого треугольника, то эти треугольники рав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2743200"/>
            <a:ext cx="9144000" cy="4114800"/>
            <a:chOff x="0" y="2743200"/>
            <a:chExt cx="9144000" cy="4114800"/>
          </a:xfrm>
        </p:grpSpPr>
        <p:sp>
          <p:nvSpPr>
            <p:cNvPr id="137" name=""/>
            <p:cNvSpPr/>
            <p:nvPr/>
          </p:nvSpPr>
          <p:spPr>
            <a:xfrm>
              <a:off x="0" y="2743200"/>
              <a:ext cx="914400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т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ссмотрим п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в которых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9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H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На продолжениях сторон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отложим неравные отрезки соответственно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огда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высоты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вны, однако сами треугольники не равны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2590920" y="3048120"/>
            <a:ext cx="46980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30481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3657600" y="3048120"/>
            <a:ext cx="46980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600" y="30481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1219320" y="4114800"/>
            <a:ext cx="46980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9320" y="411480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2438280" y="4114800"/>
            <a:ext cx="47016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38280" y="411480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6" name="" descr=""/>
            <p:cNvPicPr/>
            <p:nvPr/>
          </p:nvPicPr>
          <p:blipFill>
            <a:blip r:embed="rId9"/>
            <a:stretch/>
          </p:blipFill>
          <p:spPr>
            <a:xfrm>
              <a:off x="1828800" y="4991040"/>
              <a:ext cx="4595760" cy="18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угольника равны, если два угла и высота, проведенная из вершины одного из них, соответственно равны двум углам и высоте другого треуголь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2209680"/>
            <a:ext cx="9144000" cy="4027680"/>
            <a:chOff x="0" y="2209680"/>
            <a:chExt cx="9144000" cy="4027680"/>
          </a:xfrm>
        </p:grpSpPr>
        <p:sp>
          <p:nvSpPr>
            <p:cNvPr id="150" name=""/>
            <p:cNvSpPr/>
            <p:nvPr/>
          </p:nvSpPr>
          <p:spPr>
            <a:xfrm>
              <a:off x="0" y="2209680"/>
              <a:ext cx="91440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а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вны по катету и острому углу. Значи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 =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аким образом,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Следовательно, эти треугольники равны по стороне и двум прилежащим к ней угла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1" name=""/>
            <p:cNvGraphicFramePr/>
            <p:nvPr/>
          </p:nvGraphicFramePr>
          <p:xfrm>
            <a:off x="5334120" y="2895480"/>
            <a:ext cx="469800" cy="470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4120" y="28954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6324480" y="2895480"/>
            <a:ext cx="470160" cy="47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2895480"/>
                      <a:ext cx="47016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7086600" y="2895480"/>
            <a:ext cx="469800" cy="470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2895480"/>
                      <a:ext cx="46980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8153280" y="2895480"/>
            <a:ext cx="470160" cy="47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153280" y="2895480"/>
                      <a:ext cx="47016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9" name="" descr=""/>
            <p:cNvPicPr/>
            <p:nvPr/>
          </p:nvPicPr>
          <p:blipFill>
            <a:blip r:embed="rId9"/>
            <a:stretch/>
          </p:blipFill>
          <p:spPr>
            <a:xfrm>
              <a:off x="1828800" y="4191120"/>
              <a:ext cx="5943600" cy="204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9.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ясните, верн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о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ли следую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 утверждени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е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6094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треугольника равны, если два угла и высота, проведенная из вершины третьего угла, соответственно равны двум углам и высоте другого треуголь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2209680"/>
            <a:ext cx="9144000" cy="4235400"/>
            <a:chOff x="0" y="2209680"/>
            <a:chExt cx="9144000" cy="4235400"/>
          </a:xfrm>
        </p:grpSpPr>
        <p:sp>
          <p:nvSpPr>
            <p:cNvPr id="163" name=""/>
            <p:cNvSpPr/>
            <p:nvPr/>
          </p:nvSpPr>
          <p:spPr>
            <a:xfrm>
              <a:off x="0" y="2209680"/>
              <a:ext cx="914400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Ответ.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Да.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ямоугольные треугольник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H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равны по катету и острому углу. Значит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Кроме того, из равенства угл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ледует равенство углов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Таким образом, в треугольниках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C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ru-RU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Следовательно, эти треугольники равны по стороне и двум прилежащим к ней углам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5638680" y="3276720"/>
            <a:ext cx="47016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327672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6477120" y="3276720"/>
            <a:ext cx="46980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7120" y="32767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7238880" y="3276720"/>
            <a:ext cx="470160" cy="46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3276720"/>
                      <a:ext cx="47016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"/>
            <p:cNvGraphicFramePr/>
            <p:nvPr/>
          </p:nvGraphicFramePr>
          <p:xfrm>
            <a:off x="8229600" y="3276720"/>
            <a:ext cx="46980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29600" y="3276720"/>
                      <a:ext cx="46980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2" name="" descr=""/>
            <p:cNvPicPr/>
            <p:nvPr/>
          </p:nvPicPr>
          <p:blipFill>
            <a:blip r:embed="rId9"/>
            <a:stretch/>
          </p:blipFill>
          <p:spPr>
            <a:xfrm>
              <a:off x="1676520" y="4495680"/>
              <a:ext cx="5410080" cy="194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30T05:51:18Z</dcterms:created>
  <dc:creator>*</dc:creator>
  <dc:description/>
  <dc:language>en-US</dc:language>
  <cp:lastModifiedBy>*</cp:lastModifiedBy>
  <dcterms:modified xsi:type="dcterms:W3CDTF">2003-12-31T20:52:44Z</dcterms:modified>
  <cp:revision>34</cp:revision>
  <dc:subject/>
  <dc:title>Основные геометрические фигуры</dc:title>
</cp:coreProperties>
</file>