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783-38FD-4AEC-95BC-EC80DC22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EAC-2CEC-4601-A92B-F12A79D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1E9-5016-493E-90D9-7C3F7322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5769-70B3-4E56-9077-F6D36BE9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E79B-CEDA-4D50-A142-4F46372C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6D2E-447B-4E4B-9A6D-B970E51F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8B3-DEF0-4F0E-9D2D-AB0C5DC4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FF5-BC1F-41E1-861E-6F49B1E32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626-F4CF-4300-BF2B-2838A40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085-D0C4-4A91-AFF8-BBB645D0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2DF-BDDC-41E0-BEC1-6F5CC75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1BA-2A8F-4C13-A0F1-35EE1C6A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82B4-6B55-4D01-BD8F-2CF7F8F5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0), (3, 3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1), (-2, 3), (-3, 2), (-1, 0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1), (4, 4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1, 1), (-2, 2), (-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, (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2, 3), (-1, 1), (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2), (1, 3), (-1, 4), (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-1), (2, 2), (-2, 1), (0, -2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-1, -1), (3, 3), (1, 2), (-3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0), (3, 3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3, 1), (0, 3), (0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4, 2), (1, 2), (-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4, 3), (1, 3), (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1, -1), (1, 0), (-2, 2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1), (0, 3), (-3, 0), (-1, 0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3), (1, 4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2, 0), (1, 2), (-1, 1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2, 1), (-1, 2), (-3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0), (3, 2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2, 1), (-1, 2), (-1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1), (3, 3), (1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1), (2, 2), (1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2, -1), (1, 2), (-1, 1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2, 0), (0, 2), (-2, 0), (0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1, 1), (4, 3), (-1, 2), (-2, -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3440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0), (0, 2), (-3, 0), (0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2, 0), (3, 3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0), (3, 3), (0, 4), (0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-1, 3), (-3, 3), (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3, 2), (-1, 4), (-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2, 0), (3, 2), (1, 3), (0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24T06:36:54Z</dcterms:modified>
  <cp:revision>30</cp:revision>
  <dc:subject/>
  <dc:title>Презентация PowerPoint</dc:title>
</cp:coreProperties>
</file>