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5F9-5DC5-4CE9-A886-F0434ED2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E47-4BBA-4520-BFC7-D5C0B18F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AB2-6889-43B8-8C19-6F61CACD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921-51BB-4809-B98B-BEEB13DD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11F4-53DD-4979-A9F0-462A23CE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CC9F-31F3-46DA-AA26-06565B12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06E8-1D74-450E-9AA6-18CCF75D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D150-24C9-44DE-85D5-9AA5092F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03B2-1318-49AB-87ED-BC5B843D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487D-8067-4BAE-AE46-ABFAA6B5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47C-B6C6-4923-B789-8DAA042B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1FD-AA27-4E0A-930B-0119A6EA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BEA2-CBB5-418E-B9B4-F18EE5763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со имеет 18 спиц. Найдите величину угла (в градусах), который образуют две соседние спи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0415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метры двух зубчатых колес относятся как 3:8. На какой угол повернется большее колесо при одном обороте меньшего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5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8120" y="1752480"/>
            <a:ext cx="27367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чатое колесо имеет 12 зубцов. Сколько зубцов имеет сцепленное с ним второе зубчатое колесо, если при одном обороте первого колеса второе поворачивается на угол 1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57600" y="2133720"/>
            <a:ext cx="192420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колько градусов повернется Земля вокруг своей оси за 8 часов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87020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колько часов Земля повернется вокруг своей оси на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87020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з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ит на шнуре, перекинутом через блок, изображенный на рисунке.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 13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ему равен угол между прямым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4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29000" y="1981080"/>
            <a:ext cx="219060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угол, образованный линиями насечек у напильника, изображенного на рисун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214812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228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ане города улицы обозначенные ка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араллельны. Улиц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т с улицам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глы соответственно 43 и 65. Найдите угол, который образуют между собой улицы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5146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228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змерения углов артиллеристы употребляют особую единицу, которую называют тысячной. В трехстах шестидесяти градусах содержится 6000 тысячных. Сколько тысячных содержится в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’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228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змерения углов артиллеристы употребляют особую единицу, которую называют тысячной. В трехстах шестидесяти градусах содержится 6000 тысячных. Сколько градусов составляют 100 тысячных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в 1,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матривают в лупу, увеличивающую в четыре раза. Какой величины кажется угол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,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спиц в колесе, если углы между соседними спицами равны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81280" y="1600200"/>
            <a:ext cx="20415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ужность морских компасов делится на 32 равные части, называемые румбами. Сколько градусов составляют 4 румба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4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657600" y="1676520"/>
            <a:ext cx="17985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со зубчатой передачи имеет 72 зубца. Сколько градусов содержится в дуге окружности, заключенной между серединами двух соседних зубцов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2057400"/>
            <a:ext cx="212724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зубцов имеет колесо зубчатой передачи, если дуга окружности этого колеса, заключенная между двумя соседними зубцами, равна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29000" y="1981080"/>
            <a:ext cx="2052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угол (в градусах) образуют минутная и часовая стрелки часов в 5 ч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5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05320" y="1905120"/>
            <a:ext cx="20523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угол описывает минутная стрелка за 10 мин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6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05236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угол описывает часовая стрелка за 20 мин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20527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й угол поворачивается минутная стрелка пока часовая проходит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’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20527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оборотов в минуту делает зубчатое колесо с 32 зубцами, если сцепленное с ним зубчатое колесо с 8 зубцами делает 12 оборотов в минуту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00400" y="1981080"/>
            <a:ext cx="2629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06:28Z</dcterms:created>
  <dc:creator>*</dc:creator>
  <dc:description/>
  <dc:language>en-US</dc:language>
  <cp:lastModifiedBy>*</cp:lastModifiedBy>
  <dcterms:modified xsi:type="dcterms:W3CDTF">2010-01-11T05:33:43Z</dcterms:modified>
  <cp:revision>17</cp:revision>
  <dc:subject/>
  <dc:title>Презентация PowerPoint</dc:title>
</cp:coreProperties>
</file>