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F1A-DE3B-4C9F-B514-553A0280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8D4-301C-4098-BC56-72751B6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1C3-F1E4-4697-9BB1-18982AAC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1F8-D498-46D0-963E-AD9C130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13E-F97F-43FA-9F0B-6E05033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FC0-C253-44F3-BEC3-1D01780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B40-F7D9-4026-97D7-69E7A50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104-3096-4467-A1FE-2353625B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D6E-B045-4DAE-9954-CF3AD478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E0D-729B-4201-859C-BA4C955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DE7-3D96-461C-8F1B-35064AE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CB4-44DB-4906-A805-8658028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91B-3DF0-4987-B2AC-76CAFE9D4F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04920" y="1522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се ребра которой равны 1, найдите угол между прямой и плоскостью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387600" cy="36068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9"/>
          <p:cNvGrpSpPr/>
          <p:nvPr/>
        </p:nvGrpSpPr>
        <p:grpSpPr>
          <a:xfrm>
            <a:off x="228600" y="1523880"/>
            <a:ext cx="8915400" cy="3899160"/>
            <a:chOff x="228600" y="1523880"/>
            <a:chExt cx="8915400" cy="3899160"/>
          </a:xfrm>
        </p:grpSpPr>
        <p:sp>
          <p:nvSpPr>
            <p:cNvPr id="44" name="Text Box 3"/>
            <p:cNvSpPr/>
            <p:nvPr/>
          </p:nvSpPr>
          <p:spPr>
            <a:xfrm>
              <a:off x="3657600" y="1523880"/>
              <a:ext cx="5486400" cy="32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основание перпендику-ляра, опущенного из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з прямоугольно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Object 4"/>
            <p:cNvGraphicFramePr/>
            <p:nvPr/>
          </p:nvGraphicFramePr>
          <p:xfrm>
            <a:off x="5270400" y="3352680"/>
            <a:ext cx="167652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70400" y="3352680"/>
                      <a:ext cx="16765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Object 5"/>
            <p:cNvGraphicFramePr/>
            <p:nvPr/>
          </p:nvGraphicFramePr>
          <p:xfrm>
            <a:off x="5257800" y="4495680"/>
            <a:ext cx="179064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4495680"/>
                      <a:ext cx="179064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9" name="Picture 8" descr=""/>
            <p:cNvPicPr/>
            <p:nvPr/>
          </p:nvPicPr>
          <p:blipFill>
            <a:blip r:embed="rId6"/>
            <a:stretch/>
          </p:blipFill>
          <p:spPr>
            <a:xfrm>
              <a:off x="228600" y="1523880"/>
              <a:ext cx="3387600" cy="360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152280"/>
            <a:ext cx="822960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се ребра которой равны 1, найдите угол между прямой и плоскостью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387600" cy="36068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457200" y="1600200"/>
            <a:ext cx="8229600" cy="5029200"/>
            <a:chOff x="457200" y="1600200"/>
            <a:chExt cx="8229600" cy="5029200"/>
          </a:xfrm>
        </p:grpSpPr>
        <p:sp>
          <p:nvSpPr>
            <p:cNvPr id="53" name="Text Box 3"/>
            <p:cNvSpPr/>
            <p:nvPr/>
          </p:nvSpPr>
          <p:spPr>
            <a:xfrm>
              <a:off x="457200" y="52578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Object 5"/>
            <p:cNvGraphicFramePr/>
            <p:nvPr/>
          </p:nvGraphicFramePr>
          <p:xfrm>
            <a:off x="4114800" y="5715000"/>
            <a:ext cx="16383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14800" y="5715000"/>
                      <a:ext cx="16383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6" name="Picture 7" descr=""/>
            <p:cNvPicPr/>
            <p:nvPr/>
          </p:nvPicPr>
          <p:blipFill>
            <a:blip r:embed="rId4"/>
            <a:stretch/>
          </p:blipFill>
          <p:spPr>
            <a:xfrm>
              <a:off x="2819520" y="1600200"/>
              <a:ext cx="3387600" cy="360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Андрей Павлов</cp:lastModifiedBy>
  <dcterms:modified xsi:type="dcterms:W3CDTF">2010-12-05T19:42:21Z</dcterms:modified>
  <cp:revision>20</cp:revision>
  <dc:subject/>
  <dc:title>УГОЛ МЕЖДУ ПРЯМЫМИ В ПРОСТРАНСТВЕ</dc:title>
</cp:coreProperties>
</file>